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.png" ContentType="image/png"/>
  <Override PartName="/ppt/media/image12.wmf" ContentType="image/x-wmf"/>
  <Override PartName="/ppt/media/image32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5.png" ContentType="image/png"/>
  <Override PartName="/ppt/media/image37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3888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38880" y="6948000"/>
            <a:ext cx="4160880" cy="365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2BFCA-FF98-41AF-911A-CDCAE4FE1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438880" y="6948360"/>
            <a:ext cx="4160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C10DD-3C23-46A2-92DF-3F01C83F2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60480" y="3474720"/>
            <a:ext cx="768024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4B1-FF10-4DB7-B1C9-A6E79DE4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190-A9F8-4357-8198-6E6E41B4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2F6-FAD3-40EB-9241-A430655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8116-3663-4AE3-A4E5-9C724EEA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609-3DAE-41BC-AFF5-7A92161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2B5-C20E-4A29-8DC3-9C1AA7EB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53E-AC92-41DF-8475-1EB70F0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0B9-2D5A-41EA-AA94-5E0C79C1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7D8-1A02-4818-A842-0A940E15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827-EA37-45A3-A925-2ED4B8E7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1F6-C615-4968-825D-29AAC1D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BB1-F5CB-42A9-97B5-CFF87FAF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91C-10DA-434B-B70F-131D48F2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Equation Mode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289548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ith F. Widam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uate School of Edu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Qua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C394-1092-4B8C-B5E9-F65922823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(or measured) variables, with scores you can “get your hands 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structure to be mode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bserved (i.e., unmeasured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d by covariances among manifest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of formally stating 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D2DB-4012-4C6C-BEB7-46703A3E2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s pretty well, bu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factor loadings ar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fit is not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I &lt; .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I &lt; .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SEA &gt; .05, lower limit does not include .05, so probability of close fit suggests rejecting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 indices – two large 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ing of sccaps on Spatia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d uniqueness between addition and countd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4F21-D270-498F-B3A6-160CB48C5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add 1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2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sccaps                   # added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2 = cfa(hs.model2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2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2 = modificationIndices(fit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2, mi &gt;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CB0-22BA-49B6-ACCF-9ABA2B07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73E-C70A-40A6-916E-61CF121C9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3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.042, .08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4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6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08    0.7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85    0.065    5.918    0.000    2.046    0.4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1.005    0.138    7.291    0.000    5.333    0.5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7    0.8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7    0.087   17.016    0.000    4.411    0.8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2    0.130   16.685    0.000    6.414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5.319    0.6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50    0.161    6.540    0.000   16.083    0.7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057    0.175    6.037    0.000   16.195    0.4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.623    0.489    5.367    0.000   13.921    0.3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127    1.294    5.506    0.000    0.453    0.4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24.463    7.552    3.239    0.001    0.301    0.3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 9.377    3.505    2.675    0.007    0.206    0.2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834-5217-4AFD-8032-49BD1677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2 = modificationIndices(fit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2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mi 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  spatial =~ sentcomp 6.079  -0.127  -0.673   -0.131   -0.1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  spatial =~ addition 6.030  -0.923  -4.900   -0.196   -0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countdot 6.030   0.969   5.144    0.254    0.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   verbal =~  visperc 8.438   0.571   1.695    0.242    0.2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  verbal =~ lozenges 8.167  -0.629  -1.865   -0.207   -0.2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1    cubes ~~ lozenges 6.395   5.742   5.742    0.135    0.1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5    cubes ~~ addition 7.060 -14.481 -14.481   -0.123   -0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9 lozenges ~~ sentcomp 8.640  -4.318  -4.318   -0.093   -0.0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5 paracomp ~~ wordmean 5.249  -4.565  -4.565   -0.171   -0.1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6 paracomp ~~ addition 7.835   7.608   7.608    0.087    0.0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358-CA84-40FF-8F51-835DFE4B7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airly good fit, but could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has generally good, rather close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maining modification indices were &g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ru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ed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for ‘cfa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for ‘lavaan’ command in lav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3 and 4 are same as Mod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ED55-4ACA-4BCD-8CD6-BC2C43BE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Model 2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B7EF-13B4-4671-A5AB-1FFBD46BE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750960" y="2057400"/>
            <a:ext cx="76420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56 (very small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 attack survivors (all 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enc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memory (3 &amp; 6 months post ev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4BF2-EAA6-47D9-85B2-842ACB2FC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Hypotheses 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: Single-Process Model: Are recall and recognition memory served by a single underlying process of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: Dual-Process Recall: Is recall supported by two processes: Controlled Search (which supports fluency) and Declarative Mem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: Dual-Process Recognition: Is recognition supported by two processes: Recollection and Familiarity, the former of which supports rec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: Is a hybrid three-process model an improvement on Model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5083-9248-4F66-8B20-7DDB8999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1 – single memor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6A2-A7EA-4031-87B4-1136C2A30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4" descr=""/>
          <p:cNvPicPr/>
          <p:nvPr/>
        </p:nvPicPr>
        <p:blipFill>
          <a:blip r:embed="rId1"/>
          <a:stretch/>
        </p:blipFill>
        <p:spPr>
          <a:xfrm>
            <a:off x="838080" y="1747800"/>
            <a:ext cx="74678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Terminology (cont’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soci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 (or bi-) directional (reciprocal) relation between two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i-) directional (non-reciprocal) relation between two variables, such as IV and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direct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f an IV on a DV through one or more intervening (or mediating)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tal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of direct and indirect effects of an IV on a D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40E0-195A-49E1-9E28-08D1E002F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2 – dual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23EC-B2B8-4BF5-AC8F-59540811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tretch/>
        </p:blipFill>
        <p:spPr>
          <a:xfrm>
            <a:off x="855720" y="1763640"/>
            <a:ext cx="743256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3 – dual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1CD-C219-4703-B788-D364F399D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5" name="Picture 2" descr=""/>
          <p:cNvPicPr/>
          <p:nvPr/>
        </p:nvPicPr>
        <p:blipFill>
          <a:blip r:embed="rId1"/>
          <a:stretch/>
        </p:blipFill>
        <p:spPr>
          <a:xfrm>
            <a:off x="901800" y="1660680"/>
            <a:ext cx="734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Model 4 – hybrid three-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6BD-9BF7-4F01-A718-9BEE0EE54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2" descr=""/>
          <p:cNvPicPr/>
          <p:nvPr/>
        </p:nvPicPr>
        <p:blipFill>
          <a:blip r:embed="rId1"/>
          <a:stretch/>
        </p:blipFill>
        <p:spPr>
          <a:xfrm>
            <a:off x="870120" y="1650960"/>
            <a:ext cx="740376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sample size leads to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hit, low power to “tell us we are wro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parallel test constrain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lo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pay attention to whether model modifications lead to significan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2CD8-ABB0-4E1A-8A68-E2AA0FC0F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1.gen = '# loadings of MVs on LVs in Lambda (L)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NA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NA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097-2082-41B3-92E3-54E6FB287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single-proces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.706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~ 0*age ; declr ~~ 0*coma ; declr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de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BD91-D3EA-4321-BF7C-E28A014D8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8A8-9C54-4C27-8792-9701BDC09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-11.209    1.177   -9.521    0.000  -11.209   -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264    0.364    8.970    0.000    3.260    0.8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264    0.364    8.970    0.000    3.260    0.9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444    0.322    7.587    0.000    2.442    0.7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444    0.322    7.587    0.000    2.442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172    0.354    3.315    0.001    1.172    0.3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172    0.354    3.315    0.001    1.172    0.3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0CF-5F14-4E29-ABC4-BFC5D03D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 0.192    0.141    1.369    0.171    0.192    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397    0.135   -2.945    0.003   -0.398   -0.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45    0.131   -3.405    0.001   -0.445   -0.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          -0.343    0.105   -3.250    0.001   -0.416   -0.4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A55-AF62-4BE3-B28C-018E41F4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rhs     mi    epc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9    disru =~ comadur  6.233  8.817   8.817    0.522    0.5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4  comadur ~~  recal2  5.001 -9.559  -9.559   -0.158   -0.1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6   recal1 ~~  recal2 10.221  3.076   3.076    0.227    0.2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8   recal1 ~~  recog2  5.114 -1.337  -1.337   -0.112   -0.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9   recal2 ~~  recog1  5.620 -1.567  -1.567   -0.130   -0.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g1 ~~  recog2 20.705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.127   3.127    0.293    0.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E279-B643-43FB-B85A-40294D88B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6002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3D5-04A5-4EFB-9519-098D45615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1-process re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2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tart(-0.2)*L09*recal1 + start(-0.2)*L09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clr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1449-5AE4-4172-8DD5-538994A90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392F-3064-4261-BD77-BE395B37B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q.model3.gen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=~ start(11.6)*agey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=~ start(16.9)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 =~ start(11.1)*L01*fluen1 + start(11.1)*L01*fluen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reco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=~ start(3.26)*L03*recal1 + start(3.26)*L03*recal2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2.50)*L05*recog1 + start(2.50)*L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famil  =~ start(1.70)*L09*recog1 + start(1.70)*L09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 =~ start(1.14)*L07*recal1 + start(1.14)*L07*recog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for now, this is a covariance structure model, so no me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~~ 0*ageyrs     ;  comadur ~~ 0*comad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~~ T01*fluen1   ;  fluen2  ~~ T01*fluen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~~ T03*recal1   ;  recal2  ~~ T03*reca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~~ T05*recog1   ;  recog2  ~~ T05*recog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3158-2B93-4233-925B-066688EE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560" y="1071360"/>
            <a:ext cx="8839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1-process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~~ 1*age                coma  ~~ 1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.963*contr          recol ~~ 0.689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1*famil              disru ~~ 1*dis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~~ 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0*age ; contr ~~ 0*coma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~ 0*age ; recol ~~ 0*coma  ; recol ~~ con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age ; famil ~~ 0*coma  ; famil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~~ 0*re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age ; disru ~~ 0*coma  ; disru ~~ 0*contr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~~ 0*recol ; disru ~~ 0*fami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start(-.19)*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start(-.40)*age + start(-.40)*co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D831-D659-4D6E-9708-4DAEED395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DC0E-4AB4-4393-BE3C-813430945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4, .18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69, .19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95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5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=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yrs           11.664    1.102   10.583    0.000   11.664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=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dur          16.907    1.598   10.583    0.000   16.907    1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1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en2   (L01)   11.209    1.177    9.521    0.000   11.209    0.9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3)    3.331    0.360    9.253    0.000    3.331    0.8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2   (L03)    3.331    0.360    9.253    0.000    3.331    0.9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5)    2.300    0.359    6.413    0.000    2.300    0.6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5)    2.300    0.359    6.413    0.000    2.300    0.7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amil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2   (L09)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1.739    0.233    7.455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.739    0.5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ru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al1   (L07)    1.481    0.246    6.017    0.000    1.481    0.3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g1   (L07)    1.481    0.246    6.017    0.000    1.481    0.4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9EEC-9A03-430D-90A3-54CFEACD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192    0.141   -1.369    0.171   -0.192   -0.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             -0.406    0.133   -3.054    0.002   -0.406   -0.4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463    0.129   -3.584    0.000   -0.463   -0.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ge ~~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a             -0.180    0.129   -1.392    0.164   -0.180   -0.1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r ~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l             0.346    0.102    3.385    0.001    0.425    0.4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 – no modification indices &gt; 5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no need to add additional parameters t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41B6-1396-4D9F-8379-2989DF85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4: Latent variable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mme et al. (2004)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memory relies on Re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tion relies on Recollection and Famili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llection declines as function of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arity unaffected by Age and Coma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 of LVs of Recollection and Familiarity could only be done with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8021-A6D6-4AC0-9EAC-01ECF949A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general overview of SEM approach to aligning conjectures with statist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intro to evaluating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fit: Overall and part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 indices: Statistical and 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tion facto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you can see glimmerings of broad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029-8F3D-4E8F-A82F-00E93F739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SEM: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more to cover (in the fu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group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itudinal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lagged latent variab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tur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la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profil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transi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ture is bright [gotta wear shad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0B90-D3D2-4C8A-A453-93DBC8A6F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M, we often deal with several variables, complex relations, and latent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help explain, describe, and understand SEMs, we use path diagrams to visually represent 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EM programs use Path Diagrams for programming (e.g., AMOS, M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 path diagra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useful for very large models (with lots of variables and lots of re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 algebra may be more helpful with larg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20D-43AB-4EE6-850F-24651C8D7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literature, you will see researchers / programs draw diagrams diffe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use RAM specification (McArdle &amp; McDonald, 198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are complete, as every estimated parameter has a place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path tracing rules to generate model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variations of path diagrams will be described today, but are not likely to appear often (because they are incompl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E33C-BD8D-43A3-BF38-7203517A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s of Path Diagrams: A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996840" y="1441440"/>
            <a:ext cx="76860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22280" y="2733840"/>
            <a:ext cx="244440" cy="26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1027080" y="2523960"/>
            <a:ext cx="701640" cy="858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4"/>
          <a:stretch/>
        </p:blipFill>
        <p:spPr>
          <a:xfrm>
            <a:off x="422280" y="3886200"/>
            <a:ext cx="3301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5"/>
          <a:stretch/>
        </p:blipFill>
        <p:spPr>
          <a:xfrm>
            <a:off x="896760" y="3807000"/>
            <a:ext cx="1160640" cy="31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6"/>
          <a:stretch/>
        </p:blipFill>
        <p:spPr>
          <a:xfrm>
            <a:off x="708120" y="4757760"/>
            <a:ext cx="1146240" cy="15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7"/>
          <a:stretch/>
        </p:blipFill>
        <p:spPr>
          <a:xfrm>
            <a:off x="857160" y="5408640"/>
            <a:ext cx="712800" cy="873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476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s (or rectangles) = manifes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s (or ellipses) = latent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headed arrows = variances 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headed arrows =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angle = unit constant (for modeling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D91D-00CF-494C-A916-2E0A0337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 Basic Path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Univariat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Univariate regression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Multiple regress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Med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Complex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Confirmatory fact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Latent variable 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89EE-C409-464C-937A-8C0C44689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8A92-5325-4C70-93E9-727FC854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3623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95288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5"/>
          <p:cNvCxnSpPr>
            <a:stCxn id="123" idx="3"/>
            <a:endCxn id="124" idx="1"/>
          </p:cNvCxnSpPr>
          <p:nvPr/>
        </p:nvCxnSpPr>
        <p:spPr>
          <a:xfrm>
            <a:off x="3504960" y="2857320"/>
            <a:ext cx="1448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26" name="AutoShape 8"/>
          <p:cNvCxnSpPr>
            <a:endCxn id="124" idx="3"/>
          </p:cNvCxnSpPr>
          <p:nvPr/>
        </p:nvCxnSpPr>
        <p:spPr>
          <a:xfrm flipH="1">
            <a:off x="6095520" y="2857320"/>
            <a:ext cx="91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Univariat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FA6-F6E8-49F4-957F-8EB80350B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37160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962520" y="21114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5"/>
          <p:cNvCxnSpPr>
            <a:stCxn id="131" idx="3"/>
            <a:endCxn id="132" idx="1"/>
          </p:cNvCxnSpPr>
          <p:nvPr/>
        </p:nvCxnSpPr>
        <p:spPr>
          <a:xfrm>
            <a:off x="2514600" y="268236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4" name="Freeform 6"/>
          <p:cNvSpPr/>
          <p:nvPr/>
        </p:nvSpPr>
        <p:spPr>
          <a:xfrm rot="16200000">
            <a:off x="799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6705720" y="2111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8"/>
          <p:cNvCxnSpPr>
            <a:stCxn id="135" idx="2"/>
            <a:endCxn id="132" idx="3"/>
          </p:cNvCxnSpPr>
          <p:nvPr/>
        </p:nvCxnSpPr>
        <p:spPr>
          <a:xfrm flipH="1">
            <a:off x="5104800" y="268236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37" name="Freeform 9"/>
          <p:cNvSpPr/>
          <p:nvPr/>
        </p:nvSpPr>
        <p:spPr>
          <a:xfrm flipH="1" rot="5400000">
            <a:off x="7657920" y="24537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266688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5257800" y="4572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>
            <a:stCxn id="138" idx="3"/>
            <a:endCxn id="139" idx="1"/>
          </p:cNvCxnSpPr>
          <p:nvPr/>
        </p:nvCxnSpPr>
        <p:spPr>
          <a:xfrm>
            <a:off x="3809880" y="5143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41" name="Freeform 13"/>
          <p:cNvSpPr/>
          <p:nvPr/>
        </p:nvSpPr>
        <p:spPr>
          <a:xfrm rot="16200000">
            <a:off x="209520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4"/>
          <p:cNvSpPr/>
          <p:nvPr/>
        </p:nvSpPr>
        <p:spPr>
          <a:xfrm flipH="1" rot="5400000">
            <a:off x="6286320" y="4914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Univariate regression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Model for covariances and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B2DD-6A66-485B-97D3-23A5CD9E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6252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"/>
          <p:cNvCxnSpPr>
            <a:stCxn id="147" idx="3"/>
            <a:endCxn id="148" idx="1"/>
          </p:cNvCxnSpPr>
          <p:nvPr/>
        </p:nvCxnSpPr>
        <p:spPr>
          <a:xfrm>
            <a:off x="2514600" y="2857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0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AutoShape 8"/>
          <p:cNvCxnSpPr>
            <a:stCxn id="151" idx="2"/>
            <a:endCxn id="148" idx="3"/>
          </p:cNvCxnSpPr>
          <p:nvPr/>
        </p:nvCxnSpPr>
        <p:spPr>
          <a:xfrm flipH="1">
            <a:off x="5104800" y="2857320"/>
            <a:ext cx="160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3" name="Freeform 9"/>
          <p:cNvSpPr/>
          <p:nvPr/>
        </p:nvSpPr>
        <p:spPr>
          <a:xfrm flipH="1" rot="5400000">
            <a:off x="7657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1371600" y="48769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AutoShape 17"/>
          <p:cNvCxnSpPr>
            <a:stCxn id="154" idx="5"/>
          </p:cNvCxnSpPr>
          <p:nvPr/>
        </p:nvCxnSpPr>
        <p:spPr>
          <a:xfrm flipV="1">
            <a:off x="2228760" y="3428280"/>
            <a:ext cx="173448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56" name="AutoShape 18"/>
          <p:cNvCxnSpPr>
            <a:stCxn id="154" idx="0"/>
            <a:endCxn id="147" idx="2"/>
          </p:cNvCxnSpPr>
          <p:nvPr/>
        </p:nvCxnSpPr>
        <p:spPr>
          <a:xfrm flipV="1">
            <a:off x="1942920" y="3428640"/>
            <a:ext cx="10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57" name="Freeform 19"/>
          <p:cNvSpPr/>
          <p:nvPr/>
        </p:nvSpPr>
        <p:spPr>
          <a:xfrm rot="10800000">
            <a:off x="1599840" y="60199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SEM &amp; why should we be interes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is popular and has practical value because most or all prior parametric models can be clarifi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, linear regression, factor analysis, biometric models, etc. – all special cases of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state-of-the-art ideas can be tested only (or certainly most easily) using S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ressions among factors “free of measurement err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of latent constr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of incomplete data, circumventing or surmounting bi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provides a framework for more complex (i.e., more realistic) representations of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DDF8-EBED-4648-AB78-F7D2FD8C5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Multiple regress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7A9B-C685-4B3C-B8C5-E5B49A305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1371600" y="2286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724280" y="3505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AutoShape 5"/>
          <p:cNvCxnSpPr>
            <a:stCxn id="162" idx="3"/>
          </p:cNvCxnSpPr>
          <p:nvPr/>
        </p:nvCxnSpPr>
        <p:spPr>
          <a:xfrm>
            <a:off x="2514600" y="2857320"/>
            <a:ext cx="2210400" cy="95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5" name="Freeform 6"/>
          <p:cNvSpPr/>
          <p:nvPr/>
        </p:nvSpPr>
        <p:spPr>
          <a:xfrm rot="16200000">
            <a:off x="799920" y="2628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6629400" y="35053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6" idx="2"/>
            <a:endCxn id="163" idx="3"/>
          </p:cNvCxnSpPr>
          <p:nvPr/>
        </p:nvCxnSpPr>
        <p:spPr>
          <a:xfrm flipH="1">
            <a:off x="5866560" y="4076280"/>
            <a:ext cx="76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8" name="Freeform 9"/>
          <p:cNvSpPr/>
          <p:nvPr/>
        </p:nvSpPr>
        <p:spPr>
          <a:xfrm flipH="1" rot="5400000">
            <a:off x="7581600" y="3847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1371600" y="46483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7"/>
          <p:cNvSpPr/>
          <p:nvPr/>
        </p:nvSpPr>
        <p:spPr>
          <a:xfrm rot="16200000">
            <a:off x="799920" y="49906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18"/>
          <p:cNvCxnSpPr>
            <a:stCxn id="169" idx="3"/>
          </p:cNvCxnSpPr>
          <p:nvPr/>
        </p:nvCxnSpPr>
        <p:spPr>
          <a:xfrm flipV="1">
            <a:off x="2514600" y="4343040"/>
            <a:ext cx="221040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72" name="AutoShape 19"/>
          <p:cNvCxnSpPr>
            <a:stCxn id="169" idx="0"/>
            <a:endCxn id="162" idx="2"/>
          </p:cNvCxnSpPr>
          <p:nvPr/>
        </p:nvCxnSpPr>
        <p:spPr>
          <a:xfrm flipV="1">
            <a:off x="1942920" y="342828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Complete model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F5B-C674-4A8E-AC42-472839987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3665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33412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AutoShape 5"/>
          <p:cNvCxnSpPr/>
          <p:nvPr/>
        </p:nvCxnSpPr>
        <p:spPr>
          <a:xfrm>
            <a:off x="4419720" y="48085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0" name="Freeform 6"/>
          <p:cNvSpPr/>
          <p:nvPr/>
        </p:nvSpPr>
        <p:spPr>
          <a:xfrm>
            <a:off x="3505320" y="16081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934320" y="5265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AutoShape 8"/>
          <p:cNvCxnSpPr>
            <a:stCxn id="181" idx="2"/>
            <a:endCxn id="178" idx="3"/>
          </p:cNvCxnSpPr>
          <p:nvPr/>
        </p:nvCxnSpPr>
        <p:spPr>
          <a:xfrm flipH="1">
            <a:off x="6476760" y="583704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3" name="Freeform 9"/>
          <p:cNvSpPr/>
          <p:nvPr/>
        </p:nvSpPr>
        <p:spPr>
          <a:xfrm flipH="1" rot="5400000">
            <a:off x="78865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371600" y="52657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"/>
          <p:cNvSpPr/>
          <p:nvPr/>
        </p:nvSpPr>
        <p:spPr>
          <a:xfrm rot="16200000">
            <a:off x="799920" y="5608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84" idx="3"/>
            <a:endCxn id="178" idx="1"/>
          </p:cNvCxnSpPr>
          <p:nvPr/>
        </p:nvCxnSpPr>
        <p:spPr>
          <a:xfrm>
            <a:off x="2514600" y="583704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87" name="AutoShape 13"/>
          <p:cNvCxnSpPr/>
          <p:nvPr/>
        </p:nvCxnSpPr>
        <p:spPr>
          <a:xfrm flipV="1">
            <a:off x="2514240" y="480816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88" name="Oval 14"/>
          <p:cNvSpPr/>
          <p:nvPr/>
        </p:nvSpPr>
        <p:spPr>
          <a:xfrm>
            <a:off x="3276720" y="19890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15"/>
          <p:cNvCxnSpPr>
            <a:stCxn id="188" idx="4"/>
            <a:endCxn id="177" idx="0"/>
          </p:cNvCxnSpPr>
          <p:nvPr/>
        </p:nvCxnSpPr>
        <p:spPr>
          <a:xfrm>
            <a:off x="3847680" y="313200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0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Medi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B808-8C66-41DD-A3CB-FC2354705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000680" y="26748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5808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AutoShape 5"/>
          <p:cNvCxnSpPr/>
          <p:nvPr/>
        </p:nvCxnSpPr>
        <p:spPr>
          <a:xfrm>
            <a:off x="5143680" y="381780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99" name="Freeform 6"/>
          <p:cNvSpPr/>
          <p:nvPr/>
        </p:nvSpPr>
        <p:spPr>
          <a:xfrm>
            <a:off x="4229280" y="2217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 flipH="1" rot="5400000">
            <a:off x="708660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095560" y="42750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1"/>
          <p:cNvSpPr/>
          <p:nvPr/>
        </p:nvSpPr>
        <p:spPr>
          <a:xfrm rot="16200000">
            <a:off x="1523880" y="46173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AutoShape 12"/>
          <p:cNvCxnSpPr>
            <a:stCxn id="201" idx="3"/>
            <a:endCxn id="197" idx="1"/>
          </p:cNvCxnSpPr>
          <p:nvPr/>
        </p:nvCxnSpPr>
        <p:spPr>
          <a:xfrm>
            <a:off x="3238560" y="4846320"/>
            <a:ext cx="282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04" name="AutoShape 13"/>
          <p:cNvCxnSpPr/>
          <p:nvPr/>
        </p:nvCxnSpPr>
        <p:spPr>
          <a:xfrm flipV="1">
            <a:off x="3238200" y="3817440"/>
            <a:ext cx="7628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 Complex path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C75D-E758-4010-9691-3CF009C9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184400" y="2735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6899400" y="3421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"/>
          <p:cNvCxnSpPr>
            <a:stCxn id="210" idx="3"/>
            <a:endCxn id="213" idx="1"/>
          </p:cNvCxnSpPr>
          <p:nvPr/>
        </p:nvCxnSpPr>
        <p:spPr>
          <a:xfrm flipV="1">
            <a:off x="2327040" y="2544480"/>
            <a:ext cx="1981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14" name="Freeform 6"/>
          <p:cNvSpPr/>
          <p:nvPr/>
        </p:nvSpPr>
        <p:spPr>
          <a:xfrm rot="16200000">
            <a:off x="612720" y="3077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9"/>
          <p:cNvSpPr/>
          <p:nvPr/>
        </p:nvSpPr>
        <p:spPr>
          <a:xfrm flipH="1" rot="5400000">
            <a:off x="7927920" y="3763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184400" y="45640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"/>
          <p:cNvSpPr/>
          <p:nvPr/>
        </p:nvSpPr>
        <p:spPr>
          <a:xfrm rot="16200000">
            <a:off x="612720" y="49064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AutoShape 12"/>
          <p:cNvCxnSpPr>
            <a:stCxn id="210" idx="3"/>
            <a:endCxn id="211" idx="1"/>
          </p:cNvCxnSpPr>
          <p:nvPr/>
        </p:nvCxnSpPr>
        <p:spPr>
          <a:xfrm>
            <a:off x="2327400" y="3306240"/>
            <a:ext cx="4572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19" name="AutoShape 13"/>
          <p:cNvCxnSpPr>
            <a:stCxn id="216" idx="0"/>
            <a:endCxn id="210" idx="2"/>
          </p:cNvCxnSpPr>
          <p:nvPr/>
        </p:nvCxnSpPr>
        <p:spPr>
          <a:xfrm flipV="1">
            <a:off x="1755360" y="38775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213" name="Rectangle 16"/>
          <p:cNvSpPr/>
          <p:nvPr/>
        </p:nvSpPr>
        <p:spPr>
          <a:xfrm>
            <a:off x="4308480" y="197316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308480" y="509760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AutoShape 20"/>
          <p:cNvCxnSpPr>
            <a:stCxn id="213" idx="3"/>
            <a:endCxn id="211" idx="0"/>
          </p:cNvCxnSpPr>
          <p:nvPr/>
        </p:nvCxnSpPr>
        <p:spPr>
          <a:xfrm>
            <a:off x="5451120" y="2544840"/>
            <a:ext cx="2019960" cy="876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2" name="AutoShape 21"/>
          <p:cNvCxnSpPr>
            <a:stCxn id="213" idx="2"/>
            <a:endCxn id="220" idx="0"/>
          </p:cNvCxnSpPr>
          <p:nvPr/>
        </p:nvCxnSpPr>
        <p:spPr>
          <a:xfrm>
            <a:off x="4879440" y="3116160"/>
            <a:ext cx="1080" cy="198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3" name="AutoShape 22"/>
          <p:cNvCxnSpPr>
            <a:stCxn id="220" idx="3"/>
            <a:endCxn id="211" idx="2"/>
          </p:cNvCxnSpPr>
          <p:nvPr/>
        </p:nvCxnSpPr>
        <p:spPr>
          <a:xfrm flipV="1">
            <a:off x="5451120" y="4563360"/>
            <a:ext cx="201996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4" name="AutoShape 23"/>
          <p:cNvCxnSpPr>
            <a:stCxn id="216" idx="3"/>
          </p:cNvCxnSpPr>
          <p:nvPr/>
        </p:nvCxnSpPr>
        <p:spPr>
          <a:xfrm flipV="1">
            <a:off x="2327040" y="3115440"/>
            <a:ext cx="1981800" cy="20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25" name="AutoShape 24"/>
          <p:cNvCxnSpPr>
            <a:stCxn id="216" idx="3"/>
            <a:endCxn id="220" idx="1"/>
          </p:cNvCxnSpPr>
          <p:nvPr/>
        </p:nvCxnSpPr>
        <p:spPr>
          <a:xfrm>
            <a:off x="2327040" y="5135400"/>
            <a:ext cx="19818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26" name="Freeform 25"/>
          <p:cNvSpPr/>
          <p:nvPr/>
        </p:nvSpPr>
        <p:spPr>
          <a:xfrm>
            <a:off x="4537080" y="15159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26"/>
          <p:cNvSpPr/>
          <p:nvPr/>
        </p:nvSpPr>
        <p:spPr>
          <a:xfrm flipV="1">
            <a:off x="4537080" y="624060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onfirmatory factor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M notation: Simplified notation for co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689E-A1D2-40AB-9539-68DABF150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172200" y="610092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1"/>
          <p:cNvSpPr/>
          <p:nvPr/>
        </p:nvSpPr>
        <p:spPr>
          <a:xfrm>
            <a:off x="6594480" y="6161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522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AutoShape 4"/>
          <p:cNvCxnSpPr>
            <a:stCxn id="237" idx="4"/>
            <a:endCxn id="238" idx="0"/>
          </p:cNvCxnSpPr>
          <p:nvPr/>
        </p:nvCxnSpPr>
        <p:spPr>
          <a:xfrm flipH="1">
            <a:off x="2018520" y="3200040"/>
            <a:ext cx="7628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38" name="Rectangle 7"/>
          <p:cNvSpPr/>
          <p:nvPr/>
        </p:nvSpPr>
        <p:spPr>
          <a:xfrm>
            <a:off x="14479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8"/>
          <p:cNvSpPr/>
          <p:nvPr/>
        </p:nvSpPr>
        <p:spPr>
          <a:xfrm rot="10800000">
            <a:off x="16761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AutoShape 9"/>
          <p:cNvCxnSpPr>
            <a:stCxn id="237" idx="4"/>
            <a:endCxn id="235" idx="0"/>
          </p:cNvCxnSpPr>
          <p:nvPr/>
        </p:nvCxnSpPr>
        <p:spPr>
          <a:xfrm flipH="1">
            <a:off x="723600" y="3200040"/>
            <a:ext cx="20577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41" name="Rectangle 11"/>
          <p:cNvSpPr/>
          <p:nvPr/>
        </p:nvSpPr>
        <p:spPr>
          <a:xfrm>
            <a:off x="27432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40384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AutoShape 14"/>
          <p:cNvCxnSpPr>
            <a:stCxn id="244" idx="4"/>
            <a:endCxn id="245" idx="0"/>
          </p:cNvCxnSpPr>
          <p:nvPr/>
        </p:nvCxnSpPr>
        <p:spPr>
          <a:xfrm>
            <a:off x="5905080" y="320004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6" name="AutoShape 15"/>
          <p:cNvCxnSpPr>
            <a:stCxn id="244" idx="4"/>
            <a:endCxn id="242" idx="0"/>
          </p:cNvCxnSpPr>
          <p:nvPr/>
        </p:nvCxnSpPr>
        <p:spPr>
          <a:xfrm flipH="1">
            <a:off x="4609800" y="3200040"/>
            <a:ext cx="12960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7" name="AutoShape 16"/>
          <p:cNvCxnSpPr>
            <a:stCxn id="244" idx="4"/>
            <a:endCxn id="248" idx="0"/>
          </p:cNvCxnSpPr>
          <p:nvPr/>
        </p:nvCxnSpPr>
        <p:spPr>
          <a:xfrm>
            <a:off x="5905080" y="3200040"/>
            <a:ext cx="12963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49" name="AutoShape 17"/>
          <p:cNvCxnSpPr>
            <a:stCxn id="237" idx="4"/>
            <a:endCxn id="242" idx="0"/>
          </p:cNvCxnSpPr>
          <p:nvPr/>
        </p:nvCxnSpPr>
        <p:spPr>
          <a:xfrm>
            <a:off x="2781360" y="3200040"/>
            <a:ext cx="182952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50" name="AutoShape 18"/>
          <p:cNvCxnSpPr>
            <a:stCxn id="237" idx="4"/>
            <a:endCxn id="241" idx="0"/>
          </p:cNvCxnSpPr>
          <p:nvPr/>
        </p:nvCxnSpPr>
        <p:spPr>
          <a:xfrm>
            <a:off x="2781360" y="3200040"/>
            <a:ext cx="5342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1" name="Freeform 19"/>
          <p:cNvSpPr/>
          <p:nvPr/>
        </p:nvSpPr>
        <p:spPr>
          <a:xfrm>
            <a:off x="556272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 flipV="1">
            <a:off x="42670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1"/>
          <p:cNvSpPr/>
          <p:nvPr/>
        </p:nvSpPr>
        <p:spPr>
          <a:xfrm rot="10800000">
            <a:off x="38052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2"/>
          <p:cNvSpPr/>
          <p:nvPr/>
        </p:nvSpPr>
        <p:spPr>
          <a:xfrm>
            <a:off x="533412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3"/>
          <p:cNvSpPr/>
          <p:nvPr/>
        </p:nvSpPr>
        <p:spPr>
          <a:xfrm rot="10800000">
            <a:off x="556236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662940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7924680" y="472428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28"/>
          <p:cNvCxnSpPr>
            <a:stCxn id="244" idx="4"/>
            <a:endCxn id="255" idx="0"/>
          </p:cNvCxnSpPr>
          <p:nvPr/>
        </p:nvCxnSpPr>
        <p:spPr>
          <a:xfrm>
            <a:off x="5905080" y="3200040"/>
            <a:ext cx="259164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57" name="Freeform 29"/>
          <p:cNvSpPr/>
          <p:nvPr/>
        </p:nvSpPr>
        <p:spPr>
          <a:xfrm flipV="1">
            <a:off x="815328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0"/>
          <p:cNvSpPr/>
          <p:nvPr/>
        </p:nvSpPr>
        <p:spPr>
          <a:xfrm rot="10800000">
            <a:off x="68576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1"/>
          <p:cNvSpPr/>
          <p:nvPr/>
        </p:nvSpPr>
        <p:spPr>
          <a:xfrm rot="10800000">
            <a:off x="2971440" y="58672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220968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33"/>
          <p:cNvSpPr/>
          <p:nvPr/>
        </p:nvSpPr>
        <p:spPr>
          <a:xfrm>
            <a:off x="5334120" y="205740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AutoShape 34"/>
          <p:cNvCxnSpPr>
            <a:stCxn id="237" idx="7"/>
            <a:endCxn id="244" idx="1"/>
          </p:cNvCxnSpPr>
          <p:nvPr/>
        </p:nvCxnSpPr>
        <p:spPr>
          <a:xfrm flipH="1" rot="16200000">
            <a:off x="4342680" y="1067040"/>
            <a:ext cx="2160" cy="2315520"/>
          </a:xfrm>
          <a:prstGeom prst="curvedConnector5">
            <a:avLst>
              <a:gd name="adj1" fmla="val -24900000"/>
              <a:gd name="adj2" fmla="val 49992"/>
              <a:gd name="adj3" fmla="val -249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1" name="Freeform 35"/>
          <p:cNvSpPr/>
          <p:nvPr/>
        </p:nvSpPr>
        <p:spPr>
          <a:xfrm>
            <a:off x="2438280" y="16765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1430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AutoShape 3"/>
          <p:cNvCxnSpPr>
            <a:stCxn id="264" idx="4"/>
            <a:endCxn id="265" idx="0"/>
          </p:cNvCxnSpPr>
          <p:nvPr/>
        </p:nvCxnSpPr>
        <p:spPr>
          <a:xfrm>
            <a:off x="2323800" y="4762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5" name="Rectangle 4"/>
          <p:cNvSpPr/>
          <p:nvPr/>
        </p:nvSpPr>
        <p:spPr>
          <a:xfrm>
            <a:off x="24382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5"/>
          <p:cNvSpPr/>
          <p:nvPr/>
        </p:nvSpPr>
        <p:spPr>
          <a:xfrm rot="10800000">
            <a:off x="26665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6"/>
          <p:cNvCxnSpPr>
            <a:stCxn id="264" idx="4"/>
            <a:endCxn id="262" idx="0"/>
          </p:cNvCxnSpPr>
          <p:nvPr/>
        </p:nvCxnSpPr>
        <p:spPr>
          <a:xfrm flipH="1">
            <a:off x="1713960" y="476244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68" name="Rectangle 7"/>
          <p:cNvSpPr/>
          <p:nvPr/>
        </p:nvSpPr>
        <p:spPr>
          <a:xfrm>
            <a:off x="480060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95880" y="53352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AutoShape 10"/>
          <p:cNvCxnSpPr>
            <a:stCxn id="271" idx="4"/>
            <a:endCxn id="272" idx="0"/>
          </p:cNvCxnSpPr>
          <p:nvPr/>
        </p:nvCxnSpPr>
        <p:spPr>
          <a:xfrm flipH="1">
            <a:off x="582912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3" name="AutoShape 12"/>
          <p:cNvCxnSpPr>
            <a:stCxn id="271" idx="4"/>
            <a:endCxn id="274" idx="0"/>
          </p:cNvCxnSpPr>
          <p:nvPr/>
        </p:nvCxnSpPr>
        <p:spPr>
          <a:xfrm>
            <a:off x="7124400" y="47624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5" name="AutoShape 13"/>
          <p:cNvCxnSpPr>
            <a:stCxn id="276" idx="0"/>
            <a:endCxn id="269" idx="2"/>
          </p:cNvCxnSpPr>
          <p:nvPr/>
        </p:nvCxnSpPr>
        <p:spPr>
          <a:xfrm flipV="1">
            <a:off x="6057720" y="1676160"/>
            <a:ext cx="6102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77" name="AutoShape 14"/>
          <p:cNvCxnSpPr>
            <a:stCxn id="276" idx="0"/>
            <a:endCxn id="268" idx="2"/>
          </p:cNvCxnSpPr>
          <p:nvPr/>
        </p:nvCxnSpPr>
        <p:spPr>
          <a:xfrm flipH="1" flipV="1">
            <a:off x="5371560" y="16761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78" name="Freeform 15"/>
          <p:cNvSpPr/>
          <p:nvPr/>
        </p:nvSpPr>
        <p:spPr>
          <a:xfrm>
            <a:off x="67816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6"/>
          <p:cNvSpPr/>
          <p:nvPr/>
        </p:nvSpPr>
        <p:spPr>
          <a:xfrm>
            <a:off x="632448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7"/>
          <p:cNvSpPr/>
          <p:nvPr/>
        </p:nvSpPr>
        <p:spPr>
          <a:xfrm rot="10800000">
            <a:off x="13712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"/>
          <p:cNvSpPr/>
          <p:nvPr/>
        </p:nvSpPr>
        <p:spPr>
          <a:xfrm>
            <a:off x="525780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9"/>
          <p:cNvSpPr/>
          <p:nvPr/>
        </p:nvSpPr>
        <p:spPr>
          <a:xfrm rot="10800000">
            <a:off x="548604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0"/>
          <p:cNvSpPr/>
          <p:nvPr/>
        </p:nvSpPr>
        <p:spPr>
          <a:xfrm>
            <a:off x="655308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1"/>
          <p:cNvSpPr/>
          <p:nvPr/>
        </p:nvSpPr>
        <p:spPr>
          <a:xfrm>
            <a:off x="7848720" y="5219640"/>
            <a:ext cx="11430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AutoShape 22"/>
          <p:cNvCxnSpPr>
            <a:stCxn id="271" idx="4"/>
            <a:endCxn id="282" idx="0"/>
          </p:cNvCxnSpPr>
          <p:nvPr/>
        </p:nvCxnSpPr>
        <p:spPr>
          <a:xfrm>
            <a:off x="7124760" y="4762440"/>
            <a:ext cx="1296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84" name="Freeform 23"/>
          <p:cNvSpPr/>
          <p:nvPr/>
        </p:nvSpPr>
        <p:spPr>
          <a:xfrm flipV="1">
            <a:off x="8077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4"/>
          <p:cNvSpPr/>
          <p:nvPr/>
        </p:nvSpPr>
        <p:spPr>
          <a:xfrm rot="10800000">
            <a:off x="6781320" y="636264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5"/>
          <p:cNvSpPr/>
          <p:nvPr/>
        </p:nvSpPr>
        <p:spPr>
          <a:xfrm flipV="1" rot="10800000">
            <a:off x="5028840" y="7632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6"/>
          <p:cNvSpPr/>
          <p:nvPr/>
        </p:nvSpPr>
        <p:spPr>
          <a:xfrm>
            <a:off x="17524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7"/>
          <p:cNvSpPr/>
          <p:nvPr/>
        </p:nvSpPr>
        <p:spPr>
          <a:xfrm>
            <a:off x="6553080" y="361944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9"/>
          <p:cNvSpPr/>
          <p:nvPr/>
        </p:nvSpPr>
        <p:spPr>
          <a:xfrm>
            <a:off x="1981080" y="323856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1"/>
          <p:cNvSpPr/>
          <p:nvPr/>
        </p:nvSpPr>
        <p:spPr>
          <a:xfrm>
            <a:off x="5486400" y="2133720"/>
            <a:ext cx="11430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33"/>
          <p:cNvCxnSpPr>
            <a:stCxn id="264" idx="7"/>
            <a:endCxn id="276" idx="2"/>
          </p:cNvCxnSpPr>
          <p:nvPr/>
        </p:nvCxnSpPr>
        <p:spPr>
          <a:xfrm flipV="1">
            <a:off x="2728800" y="2704320"/>
            <a:ext cx="2758320" cy="10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89" name="AutoShape 34"/>
          <p:cNvCxnSpPr>
            <a:stCxn id="264" idx="6"/>
            <a:endCxn id="271" idx="2"/>
          </p:cNvCxnSpPr>
          <p:nvPr/>
        </p:nvCxnSpPr>
        <p:spPr>
          <a:xfrm>
            <a:off x="2895480" y="4190760"/>
            <a:ext cx="365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290" name="AutoShape 35"/>
          <p:cNvCxnSpPr>
            <a:endCxn id="271" idx="1"/>
          </p:cNvCxnSpPr>
          <p:nvPr/>
        </p:nvCxnSpPr>
        <p:spPr>
          <a:xfrm>
            <a:off x="6324480" y="3238200"/>
            <a:ext cx="396000" cy="5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291" name="Freeform 36"/>
          <p:cNvSpPr/>
          <p:nvPr/>
        </p:nvSpPr>
        <p:spPr>
          <a:xfrm flipH="1" rot="5400000">
            <a:off x="6438600" y="2476080"/>
            <a:ext cx="685800" cy="45720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866A-B350-446E-8DD0-DC52CDAD4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45720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Latent variabl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th mod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57913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for multitrait-multimethod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98A3-D25B-4E4C-8AA3-03DFDD12D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measurement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752480" y="941400"/>
            <a:ext cx="563904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477120" cy="59436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6FC-3803-4121-BF29-F839B1193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n more complex latent variable path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al Regres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lculating Expectations wi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th Tracing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3BE-B176-41E2-AFFF-95ED5BEBF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intercept, predicted value of Y when predictors (X) ar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slope coefficient, predicted amount of change in Y for a 1-unit change in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=   residual, part of Y not predicted by X, uncorrelated with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composed into variance explain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unexplained variance (varia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2286000" y="1492200"/>
          <a:ext cx="441972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492200"/>
                    <a:ext cx="441972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94CC-ECB4-4CB9-9CA3-2FF9779B1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ression and Structural Regr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between Theory an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requires researchers to be explicit about hypotheses (and assum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ible framework for articulation of theoretical conj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ramework for represent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s key ques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theory or data driving the structural model being tes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not oversell contributions of S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-called “causal models” in SEM provide no more “causal analysis” than other forms of data analysis – and maybe rather weaker, if data are 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2DF9-F437-492A-8261-63F18A73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33344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00680" y="25909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38960" y="25909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6"/>
          <p:cNvCxnSpPr>
            <a:stCxn id="313" idx="3"/>
            <a:endCxn id="314" idx="1"/>
          </p:cNvCxnSpPr>
          <p:nvPr/>
        </p:nvCxnSpPr>
        <p:spPr>
          <a:xfrm>
            <a:off x="2476440" y="316188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AutoShape 7"/>
          <p:cNvCxnSpPr>
            <a:stCxn id="315" idx="2"/>
            <a:endCxn id="314" idx="3"/>
          </p:cNvCxnSpPr>
          <p:nvPr/>
        </p:nvCxnSpPr>
        <p:spPr>
          <a:xfrm flipH="1">
            <a:off x="5143320" y="3161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Freeform 8"/>
          <p:cNvSpPr/>
          <p:nvPr/>
        </p:nvSpPr>
        <p:spPr>
          <a:xfrm rot="5400000">
            <a:off x="7429320" y="2895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933640" y="251460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7962840" y="251460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04920" y="2225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 flipH="1" rot="16200000">
            <a:off x="722880" y="289584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19"/>
          <p:cNvGraphicFramePr/>
          <p:nvPr/>
        </p:nvGraphicFramePr>
        <p:xfrm>
          <a:off x="5040360" y="4827600"/>
          <a:ext cx="29876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0360" y="4827600"/>
                    <a:ext cx="29876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20"/>
          <p:cNvSpPr/>
          <p:nvPr/>
        </p:nvSpPr>
        <p:spPr>
          <a:xfrm>
            <a:off x="5676840" y="2620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0C5D-A237-4AE3-837C-7325C2A2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for Covari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6477120" y="175248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6"/>
          <p:cNvCxnSpPr>
            <a:stCxn id="329" idx="3"/>
            <a:endCxn id="330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7"/>
          <p:cNvCxnSpPr>
            <a:stCxn id="331" idx="2"/>
            <a:endCxn id="330" idx="3"/>
          </p:cNvCxnSpPr>
          <p:nvPr/>
        </p:nvCxnSpPr>
        <p:spPr>
          <a:xfrm flipH="1">
            <a:off x="5180760" y="232380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Freeform 8"/>
          <p:cNvSpPr/>
          <p:nvPr/>
        </p:nvSpPr>
        <p:spPr>
          <a:xfrm rot="5400000">
            <a:off x="746748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8001000" y="1676520"/>
            <a:ext cx="83808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9" name="AutoShape 13"/>
          <p:cNvCxnSpPr>
            <a:stCxn id="33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AutoShape 14"/>
          <p:cNvCxnSpPr>
            <a:stCxn id="338" idx="0"/>
            <a:endCxn id="329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Freeform 15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6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2895480" y="296712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19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Text Box 20"/>
          <p:cNvSpPr/>
          <p:nvPr/>
        </p:nvSpPr>
        <p:spPr>
          <a:xfrm>
            <a:off x="5715000" y="1782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95A6-6CF0-4EE0-9AAB-AAE91916E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Model with M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137160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038480" y="1752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AutoShape 5"/>
          <p:cNvCxnSpPr>
            <a:stCxn id="351" idx="3"/>
            <a:endCxn id="352" idx="1"/>
          </p:cNvCxnSpPr>
          <p:nvPr/>
        </p:nvCxnSpPr>
        <p:spPr>
          <a:xfrm>
            <a:off x="2514240" y="232380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Freeform 6"/>
          <p:cNvSpPr/>
          <p:nvPr/>
        </p:nvSpPr>
        <p:spPr>
          <a:xfrm rot="5400000">
            <a:off x="51051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971800" y="167652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56386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52280" y="1676520"/>
            <a:ext cx="8384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1371600" y="403848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AutoShape 11"/>
          <p:cNvCxnSpPr>
            <a:stCxn id="358" idx="5"/>
          </p:cNvCxnSpPr>
          <p:nvPr/>
        </p:nvCxnSpPr>
        <p:spPr>
          <a:xfrm flipV="1">
            <a:off x="2228400" y="2894760"/>
            <a:ext cx="181044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AutoShape 12"/>
          <p:cNvCxnSpPr>
            <a:stCxn id="358" idx="0"/>
            <a:endCxn id="351" idx="2"/>
          </p:cNvCxnSpPr>
          <p:nvPr/>
        </p:nvCxnSpPr>
        <p:spPr>
          <a:xfrm flipV="1">
            <a:off x="1942920" y="28947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1" name="Freeform 13"/>
          <p:cNvSpPr/>
          <p:nvPr/>
        </p:nvSpPr>
        <p:spPr>
          <a:xfrm flipH="1" rot="16200000">
            <a:off x="761760" y="205704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4"/>
          <p:cNvSpPr/>
          <p:nvPr/>
        </p:nvSpPr>
        <p:spPr>
          <a:xfrm flipH="1" rot="10800000">
            <a:off x="1599120" y="51814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5"/>
          <p:cNvSpPr/>
          <p:nvPr/>
        </p:nvSpPr>
        <p:spPr>
          <a:xfrm>
            <a:off x="2895480" y="293364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6"/>
          <p:cNvSpPr/>
          <p:nvPr/>
        </p:nvSpPr>
        <p:spPr>
          <a:xfrm>
            <a:off x="1905120" y="32004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17"/>
          <p:cNvGraphicFramePr/>
          <p:nvPr/>
        </p:nvGraphicFramePr>
        <p:xfrm>
          <a:off x="4381560" y="4827600"/>
          <a:ext cx="430524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4827600"/>
                    <a:ext cx="430524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50D1-D1E8-4AFF-8144-9C97C7E53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Regression: Shortened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uctural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tructural model has a set of structural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nce / covariance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im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between structural expectations (with estimated parameters) and observed statistics (e.g., covariances, means) is model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based on a path diagram or computed algebra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8D55-98AA-402E-9E12-F4A65C204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3"/>
          <p:cNvSpPr/>
          <p:nvPr/>
        </p:nvSpPr>
        <p:spPr>
          <a:xfrm>
            <a:off x="54864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4"/>
          <p:cNvSpPr/>
          <p:nvPr/>
        </p:nvSpPr>
        <p:spPr>
          <a:xfrm>
            <a:off x="289548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289548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54864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7"/>
          <p:cNvCxnSpPr>
            <a:stCxn id="375" idx="6"/>
            <a:endCxn id="374" idx="2"/>
          </p:cNvCxnSpPr>
          <p:nvPr/>
        </p:nvCxnSpPr>
        <p:spPr>
          <a:xfrm>
            <a:off x="365760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AutoShape 8"/>
          <p:cNvCxnSpPr>
            <a:stCxn id="376" idx="6"/>
            <a:endCxn id="377" idx="2"/>
          </p:cNvCxnSpPr>
          <p:nvPr/>
        </p:nvCxnSpPr>
        <p:spPr>
          <a:xfrm>
            <a:off x="365760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AutoShape 9"/>
          <p:cNvCxnSpPr>
            <a:stCxn id="376" idx="2"/>
            <a:endCxn id="375" idx="2"/>
          </p:cNvCxnSpPr>
          <p:nvPr/>
        </p:nvCxnSpPr>
        <p:spPr>
          <a:xfrm flipH="1" rot="10800000">
            <a:off x="2894400" y="2361600"/>
            <a:ext cx="2520" cy="2743920"/>
          </a:xfrm>
          <a:prstGeom prst="curvedConnector5">
            <a:avLst>
              <a:gd name="adj1" fmla="val -40600000"/>
              <a:gd name="adj2" fmla="val 49993"/>
              <a:gd name="adj3" fmla="val -40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1" name="AutoShape 10"/>
          <p:cNvCxnSpPr>
            <a:stCxn id="377" idx="5"/>
            <a:endCxn id="377" idx="3"/>
          </p:cNvCxnSpPr>
          <p:nvPr/>
        </p:nvCxnSpPr>
        <p:spPr>
          <a:xfrm rot="5400000">
            <a:off x="586584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2" name="AutoShape 11"/>
          <p:cNvCxnSpPr>
            <a:stCxn id="374" idx="1"/>
            <a:endCxn id="374" idx="7"/>
          </p:cNvCxnSpPr>
          <p:nvPr/>
        </p:nvCxnSpPr>
        <p:spPr>
          <a:xfrm flipH="1" rot="16200000">
            <a:off x="586656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3" name="AutoShape 12"/>
          <p:cNvCxnSpPr>
            <a:stCxn id="375" idx="1"/>
            <a:endCxn id="375" idx="7"/>
          </p:cNvCxnSpPr>
          <p:nvPr/>
        </p:nvCxnSpPr>
        <p:spPr>
          <a:xfrm flipH="1" rot="16200000">
            <a:off x="3275640" y="1823040"/>
            <a:ext cx="2160" cy="540360"/>
          </a:xfrm>
          <a:prstGeom prst="curvedConnector5">
            <a:avLst>
              <a:gd name="adj1" fmla="val -21400000"/>
              <a:gd name="adj2" fmla="val 50000"/>
              <a:gd name="adj3" fmla="val -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4" name="AutoShape 13"/>
          <p:cNvCxnSpPr>
            <a:stCxn id="376" idx="3"/>
            <a:endCxn id="376" idx="5"/>
          </p:cNvCxnSpPr>
          <p:nvPr/>
        </p:nvCxnSpPr>
        <p:spPr>
          <a:xfrm flipH="1" rot="16200000">
            <a:off x="3274560" y="5105880"/>
            <a:ext cx="2520" cy="540360"/>
          </a:xfrm>
          <a:prstGeom prst="curvedConnector5">
            <a:avLst>
              <a:gd name="adj1" fmla="val 21400000"/>
              <a:gd name="adj2" fmla="val 50000"/>
              <a:gd name="adj3" fmla="val 21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85" name="Text Box 14"/>
          <p:cNvSpPr/>
          <p:nvPr/>
        </p:nvSpPr>
        <p:spPr>
          <a:xfrm>
            <a:off x="594360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5"/>
          <p:cNvSpPr/>
          <p:nvPr/>
        </p:nvSpPr>
        <p:spPr>
          <a:xfrm>
            <a:off x="3352680" y="1447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6"/>
          <p:cNvSpPr/>
          <p:nvPr/>
        </p:nvSpPr>
        <p:spPr>
          <a:xfrm>
            <a:off x="594360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7"/>
          <p:cNvSpPr/>
          <p:nvPr/>
        </p:nvSpPr>
        <p:spPr>
          <a:xfrm>
            <a:off x="3352680" y="5410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8"/>
          <p:cNvSpPr/>
          <p:nvPr/>
        </p:nvSpPr>
        <p:spPr>
          <a:xfrm>
            <a:off x="434340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9"/>
          <p:cNvSpPr/>
          <p:nvPr/>
        </p:nvSpPr>
        <p:spPr>
          <a:xfrm>
            <a:off x="434340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0"/>
          <p:cNvSpPr/>
          <p:nvPr/>
        </p:nvSpPr>
        <p:spPr>
          <a:xfrm>
            <a:off x="2209680" y="33526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,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21"/>
          <p:cNvCxnSpPr>
            <a:stCxn id="376" idx="7"/>
            <a:endCxn id="374" idx="3"/>
          </p:cNvCxnSpPr>
          <p:nvPr/>
        </p:nvCxnSpPr>
        <p:spPr>
          <a:xfrm flipV="1">
            <a:off x="3546360" y="2631240"/>
            <a:ext cx="205200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Text Box 22"/>
          <p:cNvSpPr/>
          <p:nvPr/>
        </p:nvSpPr>
        <p:spPr>
          <a:xfrm>
            <a:off x="434340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D5C-6279-4FAD-B701-B6814D64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7" name="Object 3"/>
          <p:cNvGraphicFramePr/>
          <p:nvPr/>
        </p:nvGraphicFramePr>
        <p:xfrm>
          <a:off x="1774800" y="1711440"/>
          <a:ext cx="2468520" cy="57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1711440"/>
                    <a:ext cx="24685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4"/>
          <p:cNvGraphicFramePr/>
          <p:nvPr/>
        </p:nvGraphicFramePr>
        <p:xfrm>
          <a:off x="1784520" y="2352600"/>
          <a:ext cx="732780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84520" y="2352600"/>
                    <a:ext cx="7327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5"/>
          <p:cNvGraphicFramePr/>
          <p:nvPr/>
        </p:nvGraphicFramePr>
        <p:xfrm>
          <a:off x="1585800" y="4944960"/>
          <a:ext cx="46753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85800" y="4944960"/>
                    <a:ext cx="46753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1635120" y="5648400"/>
          <a:ext cx="5603760" cy="59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5120" y="5648400"/>
                    <a:ext cx="560376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7"/>
          <p:cNvGraphicFramePr/>
          <p:nvPr/>
        </p:nvGraphicFramePr>
        <p:xfrm>
          <a:off x="1600200" y="4367160"/>
          <a:ext cx="2819520" cy="617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00200" y="4367160"/>
                    <a:ext cx="281952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Text Box 8"/>
          <p:cNvSpPr/>
          <p:nvPr/>
        </p:nvSpPr>
        <p:spPr>
          <a:xfrm>
            <a:off x="685800" y="11271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685800" y="3649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variance Expectations (Selected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715C-CB6F-4DB9-B2B3-949B3C0A0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Covariance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Oval 3"/>
          <p:cNvSpPr/>
          <p:nvPr/>
        </p:nvSpPr>
        <p:spPr>
          <a:xfrm>
            <a:off x="6477120" y="19810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3886200" y="19810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5"/>
          <p:cNvSpPr/>
          <p:nvPr/>
        </p:nvSpPr>
        <p:spPr>
          <a:xfrm>
            <a:off x="3886200" y="4724280"/>
            <a:ext cx="76212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477120" y="4724280"/>
            <a:ext cx="76176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7"/>
          <p:cNvCxnSpPr>
            <a:stCxn id="413" idx="6"/>
            <a:endCxn id="412" idx="2"/>
          </p:cNvCxnSpPr>
          <p:nvPr/>
        </p:nvCxnSpPr>
        <p:spPr>
          <a:xfrm>
            <a:off x="4648320" y="2361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8"/>
          <p:cNvCxnSpPr>
            <a:stCxn id="414" idx="6"/>
            <a:endCxn id="415" idx="2"/>
          </p:cNvCxnSpPr>
          <p:nvPr/>
        </p:nvCxnSpPr>
        <p:spPr>
          <a:xfrm>
            <a:off x="4648320" y="51051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Text Box 9"/>
          <p:cNvSpPr/>
          <p:nvPr/>
        </p:nvSpPr>
        <p:spPr>
          <a:xfrm>
            <a:off x="5334120" y="4648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5334120" y="19051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1"/>
          <p:cNvSpPr/>
          <p:nvPr/>
        </p:nvSpPr>
        <p:spPr>
          <a:xfrm rot="16200000">
            <a:off x="1905120" y="3238560"/>
            <a:ext cx="914400" cy="83808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AutoShape 12"/>
          <p:cNvCxnSpPr>
            <a:stCxn id="420" idx="3"/>
            <a:endCxn id="413" idx="2"/>
          </p:cNvCxnSpPr>
          <p:nvPr/>
        </p:nvCxnSpPr>
        <p:spPr>
          <a:xfrm flipV="1">
            <a:off x="2781000" y="2361960"/>
            <a:ext cx="1105560" cy="12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AutoShape 13"/>
          <p:cNvCxnSpPr>
            <a:stCxn id="420" idx="3"/>
            <a:endCxn id="414" idx="1"/>
          </p:cNvCxnSpPr>
          <p:nvPr/>
        </p:nvCxnSpPr>
        <p:spPr>
          <a:xfrm>
            <a:off x="2781360" y="3657600"/>
            <a:ext cx="1216800" cy="117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Text Box 14"/>
          <p:cNvSpPr/>
          <p:nvPr/>
        </p:nvSpPr>
        <p:spPr>
          <a:xfrm>
            <a:off x="3352680" y="26668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3352680" y="38862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Y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6"/>
          <p:cNvSpPr/>
          <p:nvPr/>
        </p:nvSpPr>
        <p:spPr>
          <a:xfrm flipH="1" rot="16200000">
            <a:off x="1713240" y="3466800"/>
            <a:ext cx="457200" cy="38124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17"/>
          <p:cNvCxnSpPr>
            <a:stCxn id="414" idx="7"/>
            <a:endCxn id="412" idx="3"/>
          </p:cNvCxnSpPr>
          <p:nvPr/>
        </p:nvCxnSpPr>
        <p:spPr>
          <a:xfrm flipV="1">
            <a:off x="4536720" y="2631240"/>
            <a:ext cx="2051640" cy="220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7" name="Text Box 18"/>
          <p:cNvSpPr/>
          <p:nvPr/>
        </p:nvSpPr>
        <p:spPr>
          <a:xfrm>
            <a:off x="5410080" y="365760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F3E-0960-42D6-85F5-EC3E9D25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ing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3"/>
          <p:cNvGraphicFramePr/>
          <p:nvPr/>
        </p:nvGraphicFramePr>
        <p:xfrm>
          <a:off x="846000" y="1704960"/>
          <a:ext cx="3489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704960"/>
                    <a:ext cx="3489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4"/>
          <p:cNvGraphicFramePr/>
          <p:nvPr/>
        </p:nvGraphicFramePr>
        <p:xfrm>
          <a:off x="838080" y="3657600"/>
          <a:ext cx="7508880" cy="171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657600"/>
                    <a:ext cx="750888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F06F-3C64-4471-95F2-FDB775E58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an Squares and Mean Expect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137160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4038480" y="53352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4"/>
          <p:cNvSpPr/>
          <p:nvPr/>
        </p:nvSpPr>
        <p:spPr>
          <a:xfrm>
            <a:off x="6477120" y="533520"/>
            <a:ext cx="1143000" cy="11430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5"/>
          <p:cNvCxnSpPr>
            <a:stCxn id="438" idx="3"/>
            <a:endCxn id="439" idx="1"/>
          </p:cNvCxnSpPr>
          <p:nvPr/>
        </p:nvCxnSpPr>
        <p:spPr>
          <a:xfrm>
            <a:off x="2514240" y="1104480"/>
            <a:ext cx="1524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AutoShape 6"/>
          <p:cNvCxnSpPr>
            <a:stCxn id="440" idx="2"/>
            <a:endCxn id="439" idx="3"/>
          </p:cNvCxnSpPr>
          <p:nvPr/>
        </p:nvCxnSpPr>
        <p:spPr>
          <a:xfrm flipH="1">
            <a:off x="5180760" y="1104480"/>
            <a:ext cx="129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Freeform 7"/>
          <p:cNvSpPr/>
          <p:nvPr/>
        </p:nvSpPr>
        <p:spPr>
          <a:xfrm rot="5400000">
            <a:off x="746748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971800" y="45720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1371600" y="2819520"/>
            <a:ext cx="1143000" cy="1143000"/>
          </a:xfrm>
          <a:prstGeom prst="triangle">
            <a:avLst>
              <a:gd name="adj" fmla="val 50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AutoShape 12"/>
          <p:cNvCxnSpPr>
            <a:stCxn id="445" idx="5"/>
          </p:cNvCxnSpPr>
          <p:nvPr/>
        </p:nvCxnSpPr>
        <p:spPr>
          <a:xfrm flipV="1">
            <a:off x="2228400" y="1676160"/>
            <a:ext cx="1810440" cy="17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AutoShape 13"/>
          <p:cNvCxnSpPr>
            <a:stCxn id="445" idx="0"/>
            <a:endCxn id="438" idx="2"/>
          </p:cNvCxnSpPr>
          <p:nvPr/>
        </p:nvCxnSpPr>
        <p:spPr>
          <a:xfrm flipV="1">
            <a:off x="1942920" y="167580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Freeform 14"/>
          <p:cNvSpPr/>
          <p:nvPr/>
        </p:nvSpPr>
        <p:spPr>
          <a:xfrm flipH="1" rot="16200000">
            <a:off x="761760" y="838080"/>
            <a:ext cx="685800" cy="53352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5"/>
          <p:cNvSpPr/>
          <p:nvPr/>
        </p:nvSpPr>
        <p:spPr>
          <a:xfrm flipH="1" rot="10800000">
            <a:off x="1599120" y="3962160"/>
            <a:ext cx="685800" cy="53316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96" y="672"/>
                </a:moveTo>
                <a:cubicBezTo>
                  <a:pt x="48" y="432"/>
                  <a:pt x="0" y="192"/>
                  <a:pt x="96" y="96"/>
                </a:cubicBezTo>
                <a:cubicBezTo>
                  <a:pt x="192" y="0"/>
                  <a:pt x="576" y="0"/>
                  <a:pt x="672" y="96"/>
                </a:cubicBezTo>
                <a:cubicBezTo>
                  <a:pt x="768" y="192"/>
                  <a:pt x="720" y="432"/>
                  <a:pt x="672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6"/>
          <p:cNvSpPr/>
          <p:nvPr/>
        </p:nvSpPr>
        <p:spPr>
          <a:xfrm>
            <a:off x="2895480" y="1692360"/>
            <a:ext cx="838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1905120" y="1981080"/>
            <a:ext cx="838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571500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19"/>
          <p:cNvGraphicFramePr/>
          <p:nvPr/>
        </p:nvGraphicFramePr>
        <p:xfrm>
          <a:off x="5127480" y="3376440"/>
          <a:ext cx="33084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7480" y="3376440"/>
                    <a:ext cx="33084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20"/>
          <p:cNvGraphicFramePr/>
          <p:nvPr/>
        </p:nvGraphicFramePr>
        <p:xfrm>
          <a:off x="5067360" y="4308480"/>
          <a:ext cx="19270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6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67360" y="4308480"/>
                    <a:ext cx="19270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21"/>
          <p:cNvGraphicFramePr/>
          <p:nvPr/>
        </p:nvGraphicFramePr>
        <p:xfrm>
          <a:off x="5092560" y="2889360"/>
          <a:ext cx="16243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92560" y="2889360"/>
                    <a:ext cx="16243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Text Box 22"/>
          <p:cNvSpPr/>
          <p:nvPr/>
        </p:nvSpPr>
        <p:spPr>
          <a:xfrm>
            <a:off x="4724280" y="2438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Vari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724280" y="3886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Co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24"/>
          <p:cNvGraphicFramePr/>
          <p:nvPr/>
        </p:nvGraphicFramePr>
        <p:xfrm>
          <a:off x="4965840" y="5827680"/>
          <a:ext cx="23367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2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65840" y="5827680"/>
                    <a:ext cx="23367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25"/>
          <p:cNvGraphicFramePr/>
          <p:nvPr/>
        </p:nvGraphicFramePr>
        <p:xfrm>
          <a:off x="5029200" y="5326200"/>
          <a:ext cx="14479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4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326200"/>
                    <a:ext cx="14479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5" name="Text Box 26"/>
          <p:cNvSpPr/>
          <p:nvPr/>
        </p:nvSpPr>
        <p:spPr>
          <a:xfrm>
            <a:off x="4724280" y="49132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ed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469-4AB8-41A5-A706-9DABF5EF4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Object 3"/>
          <p:cNvGraphicFramePr/>
          <p:nvPr/>
        </p:nvGraphicFramePr>
        <p:xfrm>
          <a:off x="363600" y="506520"/>
          <a:ext cx="50328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0" y="506520"/>
                    <a:ext cx="50328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30"/>
          <p:cNvGraphicFramePr/>
          <p:nvPr/>
        </p:nvGraphicFramePr>
        <p:xfrm>
          <a:off x="8061480" y="428760"/>
          <a:ext cx="511200" cy="60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1" name="Object 3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61480" y="428760"/>
                    <a:ext cx="5112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gebraic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s can be calculated using symbolic matrix 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involved for “Intro to S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s same expectations as do trac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helpful for very complex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s to what is going on “under the hood” as programs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AF0-98B7-45A3-A296-C6749AA32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rious Definition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 statistical statement about relations among chose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pattern of (linear) relations among a set of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 of statistical techniques that allow examination of sets of relations among one or more IVs (continuous or discrete) and one or more DVs (continuous or discre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3A6C-4B46-4DDE-8F27-82C1FF5F2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Progra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&amp; Modeling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28ED-4976-4185-9BE6-7C0F195F6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general program, several distinct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EM program, commonly used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use, words with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through 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v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good program, available through R (and fre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EA3-AB46-4725-BF2D-1C7EFA604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for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rly, used summary data (correlations, covariances, m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grams now read “raw”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start with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ardless of data (raw data, covariance matrices), be sure to export data from commonly used stat package (SAS, SPSS, R, St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check your data after SEM program reads data to make sure everything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F975-2B2C-4D8C-9E23-33DC4CBD1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s in Statistical Analysis: SEER _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: Specification – develop equations that match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etical conj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stimation – obtain best-fit 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: Evaluation – evaluate overall model fit, evaluate al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Readjustment – re-specify model to yield better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etical jus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: Model Comparison – compare fit of alternative mod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tep added by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31C-D859-4DEF-92FC-0764D580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t model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ed model will not fit data perf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mis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ors of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6CE4-9D04-4046-A033-C56ED8879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Statistical indicator of mis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-square value based on misfit to data, so higher chi-square is not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of freedom (df): Difference between number of sample statistics (covariances, plus means [if modeled]) and number of parameter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chi-square provides statistical basis for rejecting model in favor of an unspecified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ifferent alternative estimators (e.g., robu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al with simple maximum likelihood (ML) chi-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5A83-695A-4A14-AD69-D8824A41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Absolute misfit (higher levels b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Mean Square Error of Approximation (RMS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lt; .0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5 - .08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.08 - .10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MSEA      &gt; .1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lower bound includes .05, cannot reject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d root mean residual (SRMR) corre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estimate: &lt; .06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8B4-0637-4278-A25B-73A66886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resenting Model (Mis)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all (Mis)fit: Relative fit, or fit relative to null model, so higher levels are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cker-Lewis index (T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gt; .95: Clos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.90 - .95: 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I      &lt; .90: Unacceptable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do not use these as hard-and-fast cutoffs (!#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fit index (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same cutoffs as the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I seems less sensitive to model comparisons than does T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Widaman &amp; Thompson (2003, Psychological Methods) for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73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D61A-ED2C-4190-A7BA-F213DC7F7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M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581A-FDAC-447D-8429-2A2671379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767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occupational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 point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7900-77AC-4CAF-BF63-8DB4F6689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representation of theory (no default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ations of complex multivariate theories involving latent entitie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and indirect effects can be teased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/ comparison of multipl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ular variables can be both outcomes (DVs) and predictors (IVs) in the sam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data are easy to handle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6F30-8644-4893-8A70-8F8E605D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ad_ed dad_occ grades ed_exp  asp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1.000  0.277   0.250  0.572  0.489  0.3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0.277  1.000   0.611  0.294  0.446  0.3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0.250  0.611   1.000  0.248  0.410  0.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0.572  0.294   0.248  1.000  0.597  0.4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0.489  0.446   0.410  0.597  1.000  0.6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  0.335  0.303   0.331  0.478  0.651 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36FD-AF75-44DF-BFEC-A2C50E83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7E3F-B8B6-483C-AA50-21697075F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7072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int + dad_occ +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85FB-A476-46E3-8562-BBB83D95E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56    0.037    4.262    0.000    0.156    0.1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41    0.034   -1.209    0.227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-0.041   -0.0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79    0.029    2.711    0.007    0.079    0.0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45    0.036   14.983    0.000    0.545    0.5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1870-E64C-4491-A26E-9399E1FF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76BB-19AA-4995-804C-BB2F03CB8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drop 1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dad_occ + ed_ex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882-1EB7-4084-9B80-485D089C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8    0.033    4.134    0.000    0.138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77    0.029    2.628    0.009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77    0.0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37    0.036   15.040    0.000    0.537    0.5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7CF5-1479-4C6E-8702-B7DC0D2F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538-506E-4F07-9E2D-30D45B78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drop 2nd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grades +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*int + 0*dad_occ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+ ed_ex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281-D7B1-400E-93E5-D705BF8C6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139    0.034    4.134    0.000    0.139    0.1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0.0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        0.568    0.034   16.807    0.000    0.568    0.5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479-9192-4737-840B-81BF3D75A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isadvantag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(strong) substantive theory regarding relations among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arge sample size (us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asic understanding of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 to temptation, “when the tail wags the do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consider equivalent models weakens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s too easily to statements regarding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78C8-4C70-4004-9C00-2B4A328F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2CB-18DD-47D3-963C-25D75AC34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equate 2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int    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dad_ed +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grades + int + dad_ed +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 ~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grad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0*int + 0*dad_occ +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b1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*ed_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 using same "name" for coe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~~ dad_o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~ 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~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~ ed_e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~ asp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dad_oc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480-0EE8-436C-B9C8-1C07B9A0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277    0.035    7.984    0.000    0.277    0.2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47    0.030    4.835    0.000    0.147    0.1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531    0.030   17.498    0.000    0.531    0.5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        0.410    0.032   12.622    0.000    0.410    0.4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164    0.032    5.089    0.000    0.164    0.1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           0.186    0.034    5.417    0.000    0.186    0.1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153    0.033    4.627    0.000    0.153    0.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pir ~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rades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  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000                               0.000    0.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_exp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(b1)    0.353    0.016   22.450    0.000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353    0.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ed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d_occ           0.610    0.042   14.440    0.000    0.610    0.6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55E-D5C2-430A-8445-ACDC81F5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F3F1-4BED-4754-95EB-FC1C2336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63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9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1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5, .099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5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22, .087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382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34, .09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26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92, .142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7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3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8.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ckhoff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fit is fine, but one non-significant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2 is probably the optim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, given its greater parsimony, is attr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4 had much worse fit, so unacceptable on all g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, let’s look at Model 2, with 4 sizeabl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her’s education direct effect on son’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intelligence direct effect on his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grades direct effect on educational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n’s educational expectations direct effect on occup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3496-CC28-4CAB-B670-E6A2256C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1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9CAC-6AC5-437B-B8D7-32818B11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1492200" y="1600200"/>
            <a:ext cx="6585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4388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rade bo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al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oeconomic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other infl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cational aspi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BD07-7A66-408A-B000-721D42239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1.000 0.288 0.589 0.438 0.4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0.288 1.000 0.194 0.359 0.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0.589 0.194 1.000 0.473 0.4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0.438 0.359 0.473 1.000 0.6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d_aspir  0.418 0.380 0.459 0.611 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d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SES    AP    SO    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D        29.17 11.08 27.05  1.71  0.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4AEB-9415-4B6A-BA3E-74A1907B2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EA77-23B6-4C3C-B459-B013306D9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1143000" y="1725480"/>
            <a:ext cx="7010280" cy="45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ty little secret/assumption about regress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 variables are measured without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this assumption is not met with these data: All variables in this model are measured with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lear what effect this might have on model 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happen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5BB6-FD69-4ECF-B8B2-40238266C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ecial Cases of S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linear model (t-tests, regression, multiple regression, ANOVA, ANCOV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atory fact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t variable path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itudinal data analytic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order autoregressive and cross-lagg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growth curv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difference scor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8BB0-394E-46F8-91F6-149E6593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1.mv = 'ap 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ma + sesr +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ap +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ea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969C-32D3-457D-B85C-B7AE5C5C5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546    0.011   48.280    0.000    0.546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            0.010    0.001   11.260    0.000    0.010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 0.038    0.002   18.848    0.000    0.038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20    0.001   20.745    0.000    0.020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a ~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            0.008    0.000   16.699    0.000    0.008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            0.280    0.007   38.617    0.000    0.280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 ~~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           93.113    5.079   18.333    0.000   93.113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607A-A59C-44FF-B039-947EF26D6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469-4377-48C3-BFE1-5966102CC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nesty is the best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onest about what you are doing, which 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graphical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re elaborate (but more adaptable) model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see what this looks lik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5E54-E5F2-4F32-AE57-724D6E094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” hypothesized model: Mod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054-CA1A-4CBC-A271-7FCE6DE1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98480" y="1523880"/>
            <a:ext cx="653112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2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0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0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0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0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0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D33-5DE8-4630-BDBF-670EFDDF7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2 – “real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mentabil + ses + 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acadperf + 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438-5A28-4432-9226-051539AC2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46    0.011   48.280    0.000    0.589    0.5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010    0.001   11.260    0.000    0.179    0.1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38    0.002   18.848    0.000    0.246    0.2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20    0.001   20.745    0.000    0.321    0.3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08    0.000   16.699    0.000    0.219    0.2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280    0.007   38.617    0.000    0.507    0.5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113    5.079   18.333    0.000    0.288    0.2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371-A203-40C0-8370-6598E0707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5881-8A9B-4A5A-A27D-6C43C7BC9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, with expanded representation, for Mod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 specification, correct for un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“residual” variance of MVs to unreliable 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li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de: KR20 and KR21 reliability coefficients were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mulas in Kuder &amp; Richardson (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1 estimate of reliability = first thing that popped into Keith Widaman’s head when he read about M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H2 estimate of reliability = second thoughts on reliability by Jonathan Helm, a former grad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63C2-5538-4C9B-81B0-88E033E6D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Object 2"/>
          <p:cNvGraphicFramePr/>
          <p:nvPr/>
        </p:nvGraphicFramePr>
        <p:xfrm>
          <a:off x="1676520" y="2514600"/>
          <a:ext cx="43462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43462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EM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 Proc C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CC19-E294-4F33-A0C1-24A974197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0" y="1066680"/>
            <a:ext cx="4419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Com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at RAM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: lava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use let’s perform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KW1   JH2    Unrel. var = (1 - rxx) * variance of 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9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850.597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1.0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ame    for sesr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8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122.944 =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8.44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 .9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ap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7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731.703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19.51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 .70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for so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2.924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.1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ame    for ma     = (1 -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64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*   0.887 =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.3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, use above calculations in mode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8E3-A329-4BA0-9E71-3DD26BCD0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3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0.3195*ea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C78-C7DC-4E73-874D-5F372631F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3 – “corrected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start(0.001)*mentabil + start(0.046)*ses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start(-.002)*acadperf +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3D83-A1D8-4E81-9EC7-4A6306D09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F17A-D965-485B-AB08-6381F2492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ression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 0.582    0.012   48.247    0.000    0.727    0.7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0    0.001   -0.36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0.715   -0.010   -0.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 0.046    0.002   20.915    0.000    0.354    0.3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 0.038    0.002   20.607    0.000    0.647    0.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-0.002    0.001   -1.713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.087   -0.063   -0.0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         0.577    0.022   26.241    0.000    1.025    1.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        93.356    5.075   18.394    0.000    0.323    0.3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BBBE-FD3D-418A-85C0-61A7ECC8F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is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, 2, and 3 are “the same model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equal number of path coefficients, hence 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1 and 2 lea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fit: mixed, generally unaccep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parameter estimates, and SEs: all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has alt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: now acceptable on all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 estimates and 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, two estimates are non-signific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Model 4, dropping two path coeffic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1B9-C1C0-43FE-9D51-39418A916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th4.lv = '# loadings of MVs on LVs in Lambda (L)  # code =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=~ 1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=~ 1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=~ 1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=~ 1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=~ 1*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intercepts of MVs in Nu (N)           #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no means are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unique vars &amp; covs of MVs in Theta (T)#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   ~~  51.0358*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r ~~  18.4416*se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p   ~~ 219.5108*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o   ~~   1.1112*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a   ~~   0.3195*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BFF-046B-4966-8660-0139E988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4 – final trimmed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means of LVs in Alpha (A)        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again, no means used in thi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vars &amp; covariances of LVs in Psi (P)  # lavaan code ~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ntabil ~~ start(799.34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104.47)*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      ~~ start(093.36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adperf ~~ start(241.51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igother ~~ start(000.64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daspire ~~ start(000.02)*edas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 regressions among LVs in Beta (B)     # lavaan code ~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acadperf ~ start(0.582)*mentab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sigother ~ start(0.046)*ses + start(0.038)*acadpe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edaspire ~ start(0.577)*sig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DB72-43F9-4980-90A4-174246E7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7180-C6B4-4034-8ADF-C8B4F699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2.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13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121, .15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3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00, .02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9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00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4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Social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1 and 2 generally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3 is surely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mmed Model 4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simonio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path coefficien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ability to academic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 and academic performance to significant others’ infl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 other’s influence to educational aspi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AE2-4296-40DD-8E93-2694B07A1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Princi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SEM concerns relations among variables, emphasis often centers on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can be added to models, needed for som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ritten at level of observations (!), so can be fit to raw scores for per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othesized model attempts to explain associations present in data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rsimon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between observed data and hypothesized model is referred to as Model Fit (e.g., fit stat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 used most profitably when comparing fit of alternativ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90E6-4B64-4F00-848D-A3242AF3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raw score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0945-5E66-4419-9A43-1EA539496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447920" y="1843200"/>
            <a:ext cx="586728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2: Path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well et al. data: Model 4, standardized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37DE-4CFD-42FB-B0AC-15E4D571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3" descr=""/>
          <p:cNvPicPr/>
          <p:nvPr/>
        </p:nvPicPr>
        <p:blipFill>
          <a:blip r:embed="rId1"/>
          <a:stretch/>
        </p:blipFill>
        <p:spPr>
          <a:xfrm>
            <a:off x="1447920" y="1835280"/>
            <a:ext cx="586728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301 junior high school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: 9 ability variables (selected from 26),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tial ability 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 perception, cubes, loz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al comprehension (V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graph comprehension, sentence comprehension, word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ptual speed (P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, counting dots, straight-and-curved capital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8FC8-87F0-421A-B8B1-E5C471F8C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(1939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we might 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ingle factor adequate to represent covariances among the 9 manifest vari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the hypothesized 3-factor structure fit well enough or does it need modif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we identify a general factor from these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a figural portrayal of the model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F06-0CD5-4495-921E-6DD5B17A9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5703-5B36-483F-A648-59F835D3C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676520" y="2728800"/>
            <a:ext cx="647676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6104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zinger &amp; Swineford data: General model with m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BA3-B708-4F00-A0C2-E2B7E3A7C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952560" y="1731960"/>
            <a:ext cx="7238880" cy="46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3: Confirmatory factor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ation in lavaan: Model 1 – a priori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s.model1 =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loadings of MVs on LVs in Lambda (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 =~ visperc  + cubes    + loz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=~ paracomp + sentcomp + word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=~ addition + countdot + scc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t1 = cfa(hs.model1, data = hs39ra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mmary(fit1, fit.measures = TRUE, standardized = TR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spect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I1 = modificationIndices(fit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et(MI1, mi &gt; 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1EE1-F7DE-4854-BEAA-0A32549F6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t of Alternativ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E579-765F-4952-9704-C636AB0F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685800" y="1066680"/>
          <a:ext cx="7467480" cy="5023080"/>
        </p:xfrm>
        <a:graphic>
          <a:graphicData uri="http://schemas.openxmlformats.org/drawingml/2006/table">
            <a:tbl>
              <a:tblPr/>
              <a:tblGrid>
                <a:gridCol w="1494000"/>
                <a:gridCol w="1493640"/>
                <a:gridCol w="1492200"/>
                <a:gridCol w="1494000"/>
                <a:gridCol w="1493640"/>
              </a:tblGrid>
              <a:tr h="4456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ex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del 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.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&lt;.0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84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MSE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CI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9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.071, .1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0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L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8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FI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93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RM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0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χ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Δd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atent Variables: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=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sperc           1.000                               5.398    0.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s             0.369    0.066    5.554    0.000    1.992    0.4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zenges          0.972    0.145    6.685    0.000    5.249    0.5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=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racomp          1.000                               2.969    0.8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comp          1.484    0.087   17.014    0.000    4.406    0.8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mean          2.161    0.129   16.703    0.000    6.416    0.8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=~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ition          1.000                              14.248    0.5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dot          1.026    0.143    7.152    0.000   14.619    0.7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caps            1.693    0.237    7.155    0.000   24.119    0.6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variances:       Estimate  Std.Err  Z-value  P(&gt;|z|)   Std.lv  Std.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tial ~~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           7.348    1.323    5.552    0.000    0.459    0.4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36.187    7.766    4.660    0.000    0.471    0.4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erbal ~~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peed            11.971    3.403    3.518    0.000    0.283    0.2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FDEE-A4D4-4EEB-972D-2604BB74B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for Model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4920" y="1071360"/>
            <a:ext cx="8534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MI1 = modificationIndices(fit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subset(MI1, mi &gt; 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hs op      rhs     mi      epc  sepc.lv sepc.all sepc.n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  spatial =~ addition 18.631   -1.617   -8.729   -0.349   -0.3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  spatial =~   sccap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6.41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.462   18.688    0.515    0.5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6 addition ~~ countdo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34.145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246.764  246.764    0.488    0.4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8 countdot ~~   sccaps 14.946 -304.628 -304.628   -0.415   -0.4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D2E7-7DC0-4BF8-8D14-A575705D3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Widaman</dc:creator>
  <dc:description/>
  <dc:language>en-US</dc:language>
  <cp:lastModifiedBy>GRAD QUANT</cp:lastModifiedBy>
  <dcterms:modified xsi:type="dcterms:W3CDTF">2016-05-11T19:18:29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