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8.wmf" ContentType="image/x-wmf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34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31.wmf" ContentType="image/x-wmf"/>
  <Override PartName="/ppt/media/image4.png" ContentType="image/png"/>
  <Override PartName="/ppt/media/image12.wmf" ContentType="image/x-wmf"/>
  <Override PartName="/ppt/media/image32.wmf" ContentType="image/x-wmf"/>
  <Override PartName="/ppt/media/image33.wmf" ContentType="image/x-wmf"/>
  <Override PartName="/ppt/media/image35.wmf" ContentType="image/x-wmf"/>
  <Override PartName="/ppt/media/image36.wmf" ContentType="image/x-wmf"/>
  <Override PartName="/ppt/media/image13.wmf" ContentType="image/x-wmf"/>
  <Override PartName="/ppt/media/image5.png" ContentType="image/png"/>
  <Override PartName="/ppt/media/image37.wmf" ContentType="image/x-wmf"/>
  <Override PartName="/ppt/media/image8.wmf" ContentType="image/x-wmf"/>
  <Override PartName="/ppt/media/image38.wmf" ContentType="image/x-wmf"/>
  <Override PartName="/ppt/media/image11.wmf" ContentType="image/x-wmf"/>
  <Override PartName="/ppt/media/image3.png" ContentType="image/png"/>
  <Override PartName="/ppt/media/image40.wmf" ContentType="image/x-wmf"/>
  <Override PartName="/ppt/media/image7.png" ContentType="image/png"/>
  <Override PartName="/ppt/media/image15.wmf" ContentType="image/x-wmf"/>
  <Override PartName="/ppt/media/image10.wmf" ContentType="image/x-wmf"/>
  <Override PartName="/ppt/media/image2.png" ContentType="image/png"/>
  <Override PartName="/ppt/media/image6.png" ContentType="image/png"/>
  <Override PartName="/ppt/media/image14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5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5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1.xml.rels" ContentType="application/vnd.openxmlformats-package.relationships+xml"/>
  <Override PartName="/ppt/slides/_rels/slide52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58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3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78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8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2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2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9.xml" ContentType="application/vnd.openxmlformats-officedocument.presentationml.slide+xml"/>
  <Override PartName="/ppt/slides/slide59.xml" ContentType="application/vnd.openxmlformats-officedocument.presentationml.slide+xml"/>
  <Override PartName="/ppt/slides/slide58.xml" ContentType="application/vnd.openxmlformats-officedocument.presentationml.slide+xml"/>
  <Override PartName="/ppt/slides/slide8.xml" ContentType="application/vnd.openxmlformats-officedocument.presentationml.slide+xml"/>
  <Override PartName="/ppt/slides/slide21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81.xml" ContentType="application/vnd.openxmlformats-officedocument.presentationml.slide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8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83.xml" ContentType="application/vnd.openxmlformats-officedocument.presentationml.slide+xml"/>
  <Override PartName="/ppt/slides/slide128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34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44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  <Override PartName="/ppt/slides/slide29.xml" ContentType="application/vnd.openxmlformats-officedocument.presentationml.slide+xml"/>
  <Override PartName="/ppt/slides/slide97.xml" ContentType="application/vnd.openxmlformats-officedocument.presentationml.slide+xml"/>
  <Override PartName="/ppt/slides/slide125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43888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948000"/>
            <a:ext cx="4160880" cy="365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438880" y="6948000"/>
            <a:ext cx="4160880" cy="365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C2E799-28D7-4951-9408-915F6AD701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F8AA72-DF83-4585-B44B-8F1C10B889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7551-08F8-46C6-A0BE-D75E57655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3CF1-41BE-46A1-AE09-0E64956DD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4181-35B3-4098-A56E-09E3AA2A4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69B4-D6D2-44EF-B49E-2B0054C95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0BC3-D93B-444F-8A8F-066EE7215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9801-710D-46A0-ACC8-C9F5A1E68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E22C-0672-4DED-8C1F-BD2B60FC8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4AD3-A6AD-4657-BB34-A3E58B01D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9D44-46B5-4095-A387-6A0B4B835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E1FB-92C1-4B62-8E9B-4A71CEBBE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C881-2031-4BC0-B104-7C417D07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4825-0A20-44E1-A088-441786D2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E9E49-C6B7-4BAE-8A0B-E08FB468E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6.wmf"/><Relationship Id="rId1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roduction to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ructural Equation Model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2895480"/>
            <a:ext cx="91440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ith F. Widama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duate School of Educ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dQua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201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8CF41-FA2A-454E-B012-F86D49E293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 SEM Termin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nifest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(or measured) variables, with scores you can “get your hands 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structure to be mode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atent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observed (i.e., unmeasured)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ed by covariances among manifest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pec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rcise of formally stating a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421F4-C6B1-4502-A169-B6AD22DAE0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3: Confirmatory factor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lzinger &amp; Swineford (1939)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1 fits pretty well, but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factor loadings are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, fit is not opti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LI &lt; .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FI &lt; .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MSEA &gt; .05, lower limit does not include .05, so probability of close fit suggests rejecting close 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ification indices – two large 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ing of sccaps on Spatial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lated uniqueness between addition and countd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2EB97-8BD5-4A11-B0F6-355492171C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3: Confirmatory factor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2 – add 1 lo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s.model2 = 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loadings of MVs on LVs in Lambda (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patial  =~ visperc  + cubes    + lozeng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verbal   =~ paracomp + sentcomp + wordme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peed    =~ addition + countdot + scca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patial  =~ sccaps                   # added loa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it2 = cfa(hs.model2, data = hs39ra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ummary(fit2, fit.measures = TRUE, standardized = TR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spect(fit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I2 = modificationIndices(fit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ubset(MI2, mi &gt; 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55C32-B78C-43D1-A1F3-26C0AF1740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D4A88-69C5-4759-B91E-B40597E4A9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5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5.3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.3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.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9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71, .114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06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.042, .089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11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89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94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3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96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6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04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.9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atent Variables: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atial =~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isperc           1.000                               5.308    0.7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ubes             0.385    0.065    5.918    0.000    2.046    0.4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ozenges          1.005    0.138    7.291    0.000    5.333    0.5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erbal =~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acomp          1.000                               2.967    0.85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ntcomp          1.487    0.087   17.016    0.000    4.411    0.85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ordmean          2.162    0.130   16.685    0.000    6.414    0.83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eed =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ition          1.000                              15.319    0.6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dot          1.050    0.161    6.540    0.000   16.083    0.7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caps            1.057    0.175    6.037    0.000   16.195    0.4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atial =~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caps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2.623    0.489    5.367    0.000   13.921    0.38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variance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atial ~~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erbal            7.127    1.294    5.506    0.000    0.453    0.4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eed            24.463    7.552    3.239    0.001    0.301    0.3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erbal ~~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eed             9.377    3.505    2.675    0.007    0.206    0.2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AE4C4-7AF3-46AD-9EFF-9965918654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MI2 = modificationIndices(fit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subset(MI2, mi &gt; 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hs op      rhs    mi     epc sepc.lv sepc.all sepc.n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27  spatial =~ sentcomp 6.079  -0.127  -0.673   -0.131   -0.1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29  spatial =~ addition 6.030  -0.923  -4.900   -0.196   -0.19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30  spatial =~ countdot 6.030   0.969   5.144    0.254    0.2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31   verbal =~  visperc 8.438   0.571   1.695    0.242    0.24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33   verbal =~ lozenges 8.167  -0.629  -1.865   -0.207   -0.2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51    cubes ~~ lozenges 6.395   5.742   5.742    0.135    0.1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55    cubes ~~ addition 7.060 -14.481 -14.481   -0.123   -0.1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59 lozenges ~~ sentcomp 8.640  -4.318  -4.318   -0.093   -0.09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65 paracomp ~~ wordmean 5.249  -4.565  -4.565   -0.171   -0.17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66 paracomp ~~ addition 7.835   7.608   7.608    0.087    0.08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56A24-6E07-4CB3-89AE-75FE34892C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3: Confirmatory factor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lzinger &amp; Swineford (1939) da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1 fairly good fit, but could be impr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2 has generally good, rather close 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emaining modification indices were &gt;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3 and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 run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anded synt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3 for ‘cfa’ command in lava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4 for ‘lavaan’ command in lava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3 and 4 are same as Model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C898F-9EA6-4570-B20A-2F7532B8D7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3: Confirmatory factor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lzinger &amp; Swineford data: Model 2, standardized est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8FDF0-D305-4FEC-AE70-B8E7CAE8CB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2" name="Picture 4" descr=""/>
          <p:cNvPicPr/>
          <p:nvPr/>
        </p:nvPicPr>
        <p:blipFill>
          <a:blip r:embed="rId1"/>
          <a:stretch/>
        </p:blipFill>
        <p:spPr>
          <a:xfrm>
            <a:off x="750960" y="2057400"/>
            <a:ext cx="7642080" cy="381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mme et al. (2004)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= 56 (very small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rt attack survivors (all ma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a d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uency (3 &amp; 6 months post ev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all memory (3 &amp; 6 months post ev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gnition memory (3 &amp; 6 months post ev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F43D6-9C44-49ED-ABDB-5952AE597B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mme et al. (2004) data: Hypotheses 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1: Single-Process Model: Are recall and recognition memory served by a single underlying process of Declarative Memor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2: Dual-Process Recall: Is recall supported by two processes: Controlled Search (which supports fluency) and Declarative Memor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3: Dual-Process Recognition: Is recognition supported by two processes: Recollection and Familiarity, the former of which supports reca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4: Is a hybrid three-process model an improvement on Model 3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7D421-1FB8-494B-8550-1D47499A14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mme et al. Model 1 – single memory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3D953-458A-49EC-B0EC-21693F6E15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5" name="Picture 4" descr=""/>
          <p:cNvPicPr/>
          <p:nvPr/>
        </p:nvPicPr>
        <p:blipFill>
          <a:blip r:embed="rId1"/>
          <a:stretch/>
        </p:blipFill>
        <p:spPr>
          <a:xfrm>
            <a:off x="838080" y="1747800"/>
            <a:ext cx="746784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 SEM Terminology (cont’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soci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 (or bi-) directional (reciprocal) relation between two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irect eff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ni-) directional (non-reciprocal) relation between two variables, such as IV and D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direct eff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 of an IV on a DV through one or more intervening (or mediating)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otal eff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 of direct and indirect effects of an IV on a D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57334-55D7-4D8B-B31E-9A5BD7C4F7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mme et al. Model 2 – dual-process rec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38E79-842B-4080-BEEC-1EE1BCD2AD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0" name="Picture 2" descr=""/>
          <p:cNvPicPr/>
          <p:nvPr/>
        </p:nvPicPr>
        <p:blipFill>
          <a:blip r:embed="rId1"/>
          <a:stretch/>
        </p:blipFill>
        <p:spPr>
          <a:xfrm>
            <a:off x="855720" y="1763640"/>
            <a:ext cx="7432560" cy="44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mme et al. Model 3 – dual-process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3CA6A-DDEC-49E7-B698-9F72F7C09C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5" name="Picture 2" descr=""/>
          <p:cNvPicPr/>
          <p:nvPr/>
        </p:nvPicPr>
        <p:blipFill>
          <a:blip r:embed="rId1"/>
          <a:stretch/>
        </p:blipFill>
        <p:spPr>
          <a:xfrm>
            <a:off x="901800" y="1660680"/>
            <a:ext cx="7340400" cy="50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mme et al. Model 4 – hybrid three-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7A334-8AA0-4732-860A-B97DA49EAB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0" name="Picture 2" descr=""/>
          <p:cNvPicPr/>
          <p:nvPr/>
        </p:nvPicPr>
        <p:blipFill>
          <a:blip r:embed="rId1"/>
          <a:stretch/>
        </p:blipFill>
        <p:spPr>
          <a:xfrm>
            <a:off x="870120" y="1650960"/>
            <a:ext cx="7403760" cy="507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mme et al. (2004) dat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sample size leads to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whit, low power to “tell us we are wrong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oke parallel test constraint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or loa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 vari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o pay attention to whether model modifications lead to significant dif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09DD3-57C6-412B-824F-16C89F5068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304560" y="1071360"/>
            <a:ext cx="88390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1 – single-process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q.model1.gen = '# loadings of MVs on LVs in Lambda (L)# code =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   =~ NA*agey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  =~ NA*comad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 =~ start(11.1)*L01*fluen1 + start(11.1)*L01*fluen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eclr  =~ start(3.26)*L03*recal1 + start(3.26)*L03*recal2 +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art(2.50)*L05*recog1 + start(2.50)*L05*recog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isru  =~ start(1.14)*L07*recal1 + start(1.14)*L07*recog1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intercepts of MVs in Nu (N)           # lavaan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for now, this is a covariance structure model, so no me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unique vars &amp; covs of MVs in Theta (T)# lavaan code ~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geyrs ~~ 0*ageyrs     ;  comadur ~~ 0*comad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luen1 ~~ T01*fluen1   ;  fluen2  ~~ T01*fluen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cal1 ~~ T03*recal1   ;  recal2  ~~ T03*recal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g1 ~~ T05*recog1   ;  recog2  ~~ T05*recog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382F0-2D28-4641-AE01-B1E4A8C089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304560" y="1071360"/>
            <a:ext cx="88390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1 – single-process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vars &amp; covariances of LVs in Psi (P)  # lavaan code ~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  ~~ 1*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 ~~ 1*co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~~ 0.963*cont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eclr ~~ 0.706*decl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isru ~~ 1*dis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 ~~ ag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~~ 0*age ; contr ~~ 0*coma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eclr ~~ 0*age ; declr ~~ 0*coma ; declr ~~ cont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isru ~~ 0*age ; disru ~~ 0*coma ; disru ~~ 0*contr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isru ~~ 0*decl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regressions among LVs in Beta (B)     # lavaan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~  start(-.19)*a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eclr ~  start(-.40)*age + start(-.40)*co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CCC9E-C3E5-436E-90E0-6EF8985C32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D5A45-772A-4BA5-B555-70F06D08AC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6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1.3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0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2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64, .184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0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2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6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atent Variables: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=~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geyrs           11.664    1.102   10.583    0.000   11.664    1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=~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dur          16.907    1.598   10.583    0.000   16.907    1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=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luen1   (L01)  -11.209    1.177   -9.521    0.000  -11.209   -0.9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luen2   (L01)  -11.209    1.177   -9.521    0.000  -11.209   -0.9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clr =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al1   (L03)    3.264    0.364    8.970    0.000    3.260    0.86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al2   (L03)    3.264    0.364    8.970    0.000    3.260    0.9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g1   (L05)    2.444    0.322    7.587    0.000    2.442    0.7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g2   (L05)    2.444    0.322    7.587    0.000    2.442    0.77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sru =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al1   (L07)    1.172    0.354    3.315    0.001    1.172    0.3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g1   (L07)    1.172    0.354    3.315    0.001    1.172    0.3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6B5C0-8A20-4004-B34C-5E0B6D23B0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ression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~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              0.192    0.141    1.369    0.171    0.192    0.19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clr ~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             -0.397    0.135   -2.945    0.003   -0.398   -0.3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            -0.445    0.131   -3.405    0.001   -0.445   -0.4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varianc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~~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            -0.180    0.129   -1.392    0.164   -0.180   -0.1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~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clr            -0.343    0.105   -3.250    0.001   -0.416   -0.4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4565A-DCF6-45D7-9E1B-30C08F66DF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MI1 = modificationIndices(fit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subset(MI1, mi &gt; 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hs op     rhs     mi    epc sepc.lv sepc.all sepc.n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69    disru =~ comadur  6.233  8.817   8.817    0.522    0.5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84  comadur ~~  recal2  5.001 -9.559  -9.559   -0.158   -0.1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96   recal1 ~~  recal2 10.221  3.076   3.076    0.227    0.2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98   recal1 ~~  recog2  5.114 -1.337  -1.337   -0.112   -0.1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99   recal2 ~~  recog1  5.620 -1.567  -1.567   -0.130   -0.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1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recog1 ~~  recog2 20.705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3.127   3.127    0.293    0.29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728FD-CACA-4C3C-A795-5177C390ED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16002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ath Diagra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5A1A1-9955-49B7-A35B-A559CEAB50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304560" y="1071360"/>
            <a:ext cx="88390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2 – 1-process rec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q.model2.gen = '# loadings of MVs on LVs in Lambda (L)  # code =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   =~ start(11.6)*agey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  =~ start(16.9)*comad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 =~ start(11.1)*L01*fluen1 + start(11.1)*L01*fluen2 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start(-0.2)*L09*recal1 + start(-0.2)*L09*recal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eclr  =~ start(3.26)*L03*recal1 + start(3.26)*L03*recal2 +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art(2.50)*L05*recog1 + start(2.50)*L05*recog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isru  =~ start(1.14)*L07*recal1 + start(1.14)*L07*recog1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intercepts of MVs in Nu (N)           # lavaan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for now, this is a covariance structure model, so no me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unique vars &amp; covs of MVs in Theta (T)# lavaan code ~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geyrs ~~ 0*ageyrs     ;  comadur ~~ 0*comad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luen1 ~~ T01*fluen1   ;  fluen2  ~~ T01*fluen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cal1 ~~ T03*recal1   ;  recal2  ~~ T03*recal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g1 ~~ T05*recog1   ;  recog2  ~~ T05*recog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D5B90-AC02-49D0-B709-0F7222F268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F0A9D-D3A2-43DC-92C4-306536DE5F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6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1.3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.1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0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00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2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64, .184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3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69, .190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0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89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2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92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6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06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9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304560" y="1071360"/>
            <a:ext cx="88390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3 – 1-process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q.model3.gen = '# loadings of MVs on LVs in Lambda (L)  # code =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   =~ start(11.6)*agey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  =~ start(16.9)*comad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 =~ start(11.1)*L01*fluen1 + start(11.1)*L01*fluen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reco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=~ start(3.26)*L03*recal1 + start(3.26)*L03*recal2 +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art(2.50)*L05*recog1 + start(2.50)*L05*recog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famil  =~ start(1.70)*L09*recog1 + start(1.70)*L09*recog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isru  =~ start(1.14)*L07*recal1 + start(1.14)*L07*recog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intercepts of MVs in Nu (N)           # lavaan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for now, this is a covariance structure model, so no me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unique vars &amp; covs of MVs in Theta (T)# lavaan code ~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geyrs ~~ 0*ageyrs     ;  comadur ~~ 0*comad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luen1 ~~ T01*fluen1   ;  fluen2  ~~ T01*fluen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cal1 ~~ T03*recal1   ;  recal2  ~~ T03*recal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g1 ~~ T05*recog1   ;  recog2  ~~ T05*recog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2DD55-E88E-47CB-876C-6B17489CB6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304560" y="1071360"/>
            <a:ext cx="88390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3 – 1-process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vars &amp; covariances of LVs in Psi (P)  # lavaan code ~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  ~~ 1*age                coma  ~~ 1*co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~~ 0.963*contr          recol ~~ 0.689*rec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amil ~~ 1*famil              disru ~~ 1*dis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 ~~ ag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~~ 0*age ; contr ~~ 0*coma 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l ~~ 0*age ; recol ~~ 0*coma  ; recol ~~ cont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amil ~~ 0*age ; famil ~~ 0*coma  ; famil ~~ 0*contr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amil ~~ 0*rec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isru ~~ 0*age ; disru ~~ 0*coma  ; disru ~~ 0*contr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isru ~~ 0*recol ; disru ~~ 0*famil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regressions among LVs in Beta (B)     # lavaan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~  start(-.19)*a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l ~  start(-.40)*age + start(-.40)*co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E0971-8096-4366-882B-CB047EB191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B6A82-0F98-48C4-8DC8-75BF2F0D19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8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1.3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.1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.0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0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00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6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2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64, .184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3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69, .190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0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00, .095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7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0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89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1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2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92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6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06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05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.2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9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atent Variabl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=~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geyrs           11.664    1.102   10.583    0.000   11.664    1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=~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dur          16.907    1.598   10.583    0.000   16.907    1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=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luen1   (L01)   11.209    1.177    9.521    0.000   11.209    0.9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luen2   (L01)   11.209    1.177    9.521    0.000   11.209    0.9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l =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al1   (L03)    3.331    0.360    9.253    0.000    3.331    0.86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al2   (L03)    3.331    0.360    9.253    0.000    3.331    0.93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g1   (L05)    2.300    0.359    6.413    0.000    2.300    0.66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g2   (L05)    2.300    0.359    6.413    0.000    2.300    0.73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amil =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g1   (L09)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1.739    0.233    7.455    0.000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.739    0.5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g2   (L09)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1.739    0.233    7.455    0.000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.739    0.55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sru =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al1   (L07)    1.481    0.246    6.017    0.000    1.481    0.38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g1   (L07)    1.481    0.246    6.017    0.000    1.481    0.4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C20C9-67C0-4952-853D-1C302D5048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ression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~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             -0.192    0.141   -1.369    0.171   -0.192   -0.19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l ~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             -0.406    0.133   -3.054    0.002   -0.406   -0.4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            -0.463    0.129   -3.584    0.000   -0.463   -0.46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variance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~~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            -0.180    0.129   -1.392    0.164   -0.180   -0.1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~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l             0.346    0.102    3.385    0.001    0.425    0.4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us – no modification indices &gt; 5 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nce, no need to add additional parameters to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9ABD6-495B-4056-8135-FF7F63459D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mme et al. (2004) da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3 is the optimal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all memory relies on Re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gnition relies on Recollection and Famili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llection declines as function of Age and Coma D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miliarity unaffected by Age and Coma D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ing of LVs of Recollection and Familiarity could only be done with S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E202B-1763-4874-9F6D-88AD983690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tion to SEM: 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d general overview of SEM approach to aligning conjectures with statistical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d intro to evaluating 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fit: Overall and partic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t indices: Statistical and prac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d 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h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rmation factor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variable path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ust you can see glimmerings of broad ut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9EA92-788C-498E-B3E1-05F3452926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tion to SEM: 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ch more to cover (in the futu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-group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itudinal mo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growth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difference score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oss-lagged latent variable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xture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lass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profile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transition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ture is bright [gotta wear shades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20116-FD64-4344-A5C0-FC6CF18718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th Dia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SEM, we often deal with several variables, complex relations, and latent ent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help explain, describe, and understand SEMs, we use path diagrams to visually represent a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SEM programs use Path Diagrams for programming (e.g., AMOS, M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, path diagra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not be useful for very large models (with lots of variables and lots of rel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 algebra may be more helpful with large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AA753-1762-4280-B0C7-57438A0A93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th Dia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ing literature, you will see researchers / programs draw diagrams differ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ill use RAM specification (McArdle &amp; McDonald, 198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grams are complete, as every estimated parameter has a place in the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use path tracing rules to generate model expec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 variations of path diagrams will be described today, but are not likely to appear often (because they are incomple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5BEC0-F7AA-4245-8705-B7958943FC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ics of Path Diagrams: A K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996840" y="1441440"/>
            <a:ext cx="768600" cy="858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22280" y="2733840"/>
            <a:ext cx="244440" cy="2682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"/>
          <p:cNvPicPr/>
          <p:nvPr/>
        </p:nvPicPr>
        <p:blipFill>
          <a:blip r:embed="rId3"/>
          <a:stretch/>
        </p:blipFill>
        <p:spPr>
          <a:xfrm>
            <a:off x="1027080" y="2523960"/>
            <a:ext cx="701640" cy="8589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"/>
          <p:cNvPicPr/>
          <p:nvPr/>
        </p:nvPicPr>
        <p:blipFill>
          <a:blip r:embed="rId4"/>
          <a:stretch/>
        </p:blipFill>
        <p:spPr>
          <a:xfrm>
            <a:off x="422280" y="3886200"/>
            <a:ext cx="330120" cy="304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"/>
          <p:cNvPicPr/>
          <p:nvPr/>
        </p:nvPicPr>
        <p:blipFill>
          <a:blip r:embed="rId5"/>
          <a:stretch/>
        </p:blipFill>
        <p:spPr>
          <a:xfrm>
            <a:off x="896760" y="3807000"/>
            <a:ext cx="1160640" cy="3110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"/>
          <p:cNvPicPr/>
          <p:nvPr/>
        </p:nvPicPr>
        <p:blipFill>
          <a:blip r:embed="rId6"/>
          <a:stretch/>
        </p:blipFill>
        <p:spPr>
          <a:xfrm>
            <a:off x="708120" y="4757760"/>
            <a:ext cx="1146240" cy="1587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"/>
          <p:cNvPicPr/>
          <p:nvPr/>
        </p:nvPicPr>
        <p:blipFill>
          <a:blip r:embed="rId7"/>
          <a:stretch/>
        </p:blipFill>
        <p:spPr>
          <a:xfrm>
            <a:off x="857160" y="5408640"/>
            <a:ext cx="712800" cy="873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361960" y="1599840"/>
            <a:ext cx="6476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s (or rectangles) = manifest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rcles (or ellipses) = latent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ble-headed arrows = variances or covari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gle-headed arrows = reg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angle = unit constant (for modeling mea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761D2-0DF3-4A87-9532-A85EF15434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 Basic Path Dia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Univariate regression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Univariate regression model with m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 Multiple regression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 Mediation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 Complex path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.  Confirmatory factor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.  Latent variable path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05E43-CD7A-4285-BA8E-8CC02A0680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Univariate regress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on n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9DD47-0A04-40E8-8A2C-3B2F934D5C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2362320" y="22860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4952880" y="22860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AutoShape 5"/>
          <p:cNvCxnSpPr>
            <a:stCxn id="123" idx="3"/>
            <a:endCxn id="124" idx="1"/>
          </p:cNvCxnSpPr>
          <p:nvPr/>
        </p:nvCxnSpPr>
        <p:spPr>
          <a:xfrm>
            <a:off x="3504960" y="2857320"/>
            <a:ext cx="1448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26" name="AutoShape 8"/>
          <p:cNvCxnSpPr>
            <a:endCxn id="124" idx="3"/>
          </p:cNvCxnSpPr>
          <p:nvPr/>
        </p:nvCxnSpPr>
        <p:spPr>
          <a:xfrm flipH="1">
            <a:off x="6095520" y="285732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Univariate regress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M notation: Complete model for covari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rt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0EDD7-F16A-400D-936C-7AA9B7FF4E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1371600" y="21114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3962520" y="21114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AutoShape 5"/>
          <p:cNvCxnSpPr>
            <a:stCxn id="131" idx="3"/>
            <a:endCxn id="132" idx="1"/>
          </p:cNvCxnSpPr>
          <p:nvPr/>
        </p:nvCxnSpPr>
        <p:spPr>
          <a:xfrm>
            <a:off x="2514600" y="268236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34" name="Freeform 6"/>
          <p:cNvSpPr/>
          <p:nvPr/>
        </p:nvSpPr>
        <p:spPr>
          <a:xfrm rot="16200000">
            <a:off x="799920" y="24537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7"/>
          <p:cNvSpPr/>
          <p:nvPr/>
        </p:nvSpPr>
        <p:spPr>
          <a:xfrm>
            <a:off x="6705720" y="2111400"/>
            <a:ext cx="114300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AutoShape 8"/>
          <p:cNvCxnSpPr>
            <a:stCxn id="135" idx="2"/>
            <a:endCxn id="132" idx="3"/>
          </p:cNvCxnSpPr>
          <p:nvPr/>
        </p:nvCxnSpPr>
        <p:spPr>
          <a:xfrm flipH="1">
            <a:off x="5104800" y="2682360"/>
            <a:ext cx="160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37" name="Freeform 9"/>
          <p:cNvSpPr/>
          <p:nvPr/>
        </p:nvSpPr>
        <p:spPr>
          <a:xfrm flipH="1" rot="5400000">
            <a:off x="7657920" y="24537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0"/>
          <p:cNvSpPr/>
          <p:nvPr/>
        </p:nvSpPr>
        <p:spPr>
          <a:xfrm>
            <a:off x="2666880" y="45720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1"/>
          <p:cNvSpPr/>
          <p:nvPr/>
        </p:nvSpPr>
        <p:spPr>
          <a:xfrm>
            <a:off x="5257800" y="45720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AutoShape 12"/>
          <p:cNvCxnSpPr>
            <a:stCxn id="138" idx="3"/>
            <a:endCxn id="139" idx="1"/>
          </p:cNvCxnSpPr>
          <p:nvPr/>
        </p:nvCxnSpPr>
        <p:spPr>
          <a:xfrm>
            <a:off x="3809880" y="514332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41" name="Freeform 13"/>
          <p:cNvSpPr/>
          <p:nvPr/>
        </p:nvSpPr>
        <p:spPr>
          <a:xfrm rot="16200000">
            <a:off x="2095200" y="49143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14"/>
          <p:cNvSpPr/>
          <p:nvPr/>
        </p:nvSpPr>
        <p:spPr>
          <a:xfrm flipH="1" rot="5400000">
            <a:off x="6286320" y="49143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Univariate regression model with me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M notation: Model for covariances and m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ED183-ACC1-4568-BB23-8DC425BED2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1371600" y="22860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3962520" y="22860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AutoShape 5"/>
          <p:cNvCxnSpPr>
            <a:stCxn id="147" idx="3"/>
            <a:endCxn id="148" idx="1"/>
          </p:cNvCxnSpPr>
          <p:nvPr/>
        </p:nvCxnSpPr>
        <p:spPr>
          <a:xfrm>
            <a:off x="2514600" y="285732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50" name="Freeform 6"/>
          <p:cNvSpPr/>
          <p:nvPr/>
        </p:nvSpPr>
        <p:spPr>
          <a:xfrm rot="16200000">
            <a:off x="799920" y="26283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7"/>
          <p:cNvSpPr/>
          <p:nvPr/>
        </p:nvSpPr>
        <p:spPr>
          <a:xfrm>
            <a:off x="6705720" y="2286000"/>
            <a:ext cx="114300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AutoShape 8"/>
          <p:cNvCxnSpPr>
            <a:stCxn id="151" idx="2"/>
            <a:endCxn id="148" idx="3"/>
          </p:cNvCxnSpPr>
          <p:nvPr/>
        </p:nvCxnSpPr>
        <p:spPr>
          <a:xfrm flipH="1">
            <a:off x="5104800" y="2857320"/>
            <a:ext cx="160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53" name="Freeform 9"/>
          <p:cNvSpPr/>
          <p:nvPr/>
        </p:nvSpPr>
        <p:spPr>
          <a:xfrm flipH="1" rot="5400000">
            <a:off x="7657920" y="26283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6"/>
          <p:cNvSpPr/>
          <p:nvPr/>
        </p:nvSpPr>
        <p:spPr>
          <a:xfrm>
            <a:off x="1371600" y="4876920"/>
            <a:ext cx="1143000" cy="11430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" name="AutoShape 17"/>
          <p:cNvCxnSpPr>
            <a:stCxn id="154" idx="5"/>
          </p:cNvCxnSpPr>
          <p:nvPr/>
        </p:nvCxnSpPr>
        <p:spPr>
          <a:xfrm flipV="1">
            <a:off x="2228760" y="3428280"/>
            <a:ext cx="1734480" cy="20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56" name="AutoShape 18"/>
          <p:cNvCxnSpPr>
            <a:stCxn id="154" idx="0"/>
            <a:endCxn id="147" idx="2"/>
          </p:cNvCxnSpPr>
          <p:nvPr/>
        </p:nvCxnSpPr>
        <p:spPr>
          <a:xfrm flipV="1">
            <a:off x="1942920" y="3428640"/>
            <a:ext cx="1080" cy="144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57" name="Freeform 19"/>
          <p:cNvSpPr/>
          <p:nvPr/>
        </p:nvSpPr>
        <p:spPr>
          <a:xfrm rot="10800000">
            <a:off x="1599840" y="601992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SEM &amp; why should we be interest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 is popular and has practical value because most or all prior parametric models can be clarifi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VA, linear regression, factor analysis, biometric models, etc. – all special cases of S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state-of-the-art ideas can be tested only (or certainly most easily) using SE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ressions among factors “free of measurement erro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tion of latent constr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sis of incomplete data, circumventing or surmounting bi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 provides a framework for more complex (i.e., more realistic) representations of human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A7FFC-E753-4331-9D79-6FFEBFB554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 Multiple regress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M notation: Complete model for covari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49779-5A26-4EF7-90E8-D4F33AA4B7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1371600" y="22860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4724280" y="350532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AutoShape 5"/>
          <p:cNvCxnSpPr>
            <a:stCxn id="162" idx="3"/>
          </p:cNvCxnSpPr>
          <p:nvPr/>
        </p:nvCxnSpPr>
        <p:spPr>
          <a:xfrm>
            <a:off x="2514600" y="2857320"/>
            <a:ext cx="2210400" cy="95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5" name="Freeform 6"/>
          <p:cNvSpPr/>
          <p:nvPr/>
        </p:nvSpPr>
        <p:spPr>
          <a:xfrm rot="16200000">
            <a:off x="799920" y="26283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7"/>
          <p:cNvSpPr/>
          <p:nvPr/>
        </p:nvSpPr>
        <p:spPr>
          <a:xfrm>
            <a:off x="6629400" y="3505320"/>
            <a:ext cx="114300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AutoShape 8"/>
          <p:cNvCxnSpPr>
            <a:stCxn id="166" idx="2"/>
            <a:endCxn id="163" idx="3"/>
          </p:cNvCxnSpPr>
          <p:nvPr/>
        </p:nvCxnSpPr>
        <p:spPr>
          <a:xfrm flipH="1">
            <a:off x="5866560" y="4076280"/>
            <a:ext cx="762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8" name="Freeform 9"/>
          <p:cNvSpPr/>
          <p:nvPr/>
        </p:nvSpPr>
        <p:spPr>
          <a:xfrm flipH="1" rot="5400000">
            <a:off x="7581600" y="38476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6"/>
          <p:cNvSpPr/>
          <p:nvPr/>
        </p:nvSpPr>
        <p:spPr>
          <a:xfrm>
            <a:off x="1371600" y="464832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17"/>
          <p:cNvSpPr/>
          <p:nvPr/>
        </p:nvSpPr>
        <p:spPr>
          <a:xfrm rot="16200000">
            <a:off x="799920" y="49906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" name="AutoShape 18"/>
          <p:cNvCxnSpPr>
            <a:stCxn id="169" idx="3"/>
          </p:cNvCxnSpPr>
          <p:nvPr/>
        </p:nvCxnSpPr>
        <p:spPr>
          <a:xfrm flipV="1">
            <a:off x="2514600" y="4343040"/>
            <a:ext cx="2210400" cy="87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72" name="AutoShape 19"/>
          <p:cNvCxnSpPr>
            <a:stCxn id="169" idx="0"/>
            <a:endCxn id="162" idx="2"/>
          </p:cNvCxnSpPr>
          <p:nvPr/>
        </p:nvCxnSpPr>
        <p:spPr>
          <a:xfrm flipV="1">
            <a:off x="1942920" y="3428280"/>
            <a:ext cx="1080" cy="122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</p:cxn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. Media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M notation: Complete model for covari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B9014-E651-4F18-B844-9F7350B8B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3276720" y="366552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5334120" y="526572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AutoShape 5"/>
          <p:cNvCxnSpPr/>
          <p:nvPr/>
        </p:nvCxnSpPr>
        <p:spPr>
          <a:xfrm>
            <a:off x="4419720" y="4808520"/>
            <a:ext cx="9151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80" name="Freeform 6"/>
          <p:cNvSpPr/>
          <p:nvPr/>
        </p:nvSpPr>
        <p:spPr>
          <a:xfrm>
            <a:off x="3505320" y="160812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7"/>
          <p:cNvSpPr/>
          <p:nvPr/>
        </p:nvSpPr>
        <p:spPr>
          <a:xfrm>
            <a:off x="6934320" y="5265720"/>
            <a:ext cx="114300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" name="AutoShape 8"/>
          <p:cNvCxnSpPr>
            <a:stCxn id="181" idx="2"/>
            <a:endCxn id="178" idx="3"/>
          </p:cNvCxnSpPr>
          <p:nvPr/>
        </p:nvCxnSpPr>
        <p:spPr>
          <a:xfrm flipH="1">
            <a:off x="6476760" y="583704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83" name="Freeform 9"/>
          <p:cNvSpPr/>
          <p:nvPr/>
        </p:nvSpPr>
        <p:spPr>
          <a:xfrm flipH="1" rot="5400000">
            <a:off x="7886520" y="56080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1371600" y="526572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11"/>
          <p:cNvSpPr/>
          <p:nvPr/>
        </p:nvSpPr>
        <p:spPr>
          <a:xfrm rot="16200000">
            <a:off x="799920" y="56080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AutoShape 12"/>
          <p:cNvCxnSpPr>
            <a:stCxn id="184" idx="3"/>
            <a:endCxn id="178" idx="1"/>
          </p:cNvCxnSpPr>
          <p:nvPr/>
        </p:nvCxnSpPr>
        <p:spPr>
          <a:xfrm>
            <a:off x="2514600" y="5837040"/>
            <a:ext cx="2820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87" name="AutoShape 13"/>
          <p:cNvCxnSpPr/>
          <p:nvPr/>
        </p:nvCxnSpPr>
        <p:spPr>
          <a:xfrm flipV="1">
            <a:off x="2514240" y="4808160"/>
            <a:ext cx="76284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88" name="Oval 14"/>
          <p:cNvSpPr/>
          <p:nvPr/>
        </p:nvSpPr>
        <p:spPr>
          <a:xfrm>
            <a:off x="3276720" y="1989000"/>
            <a:ext cx="114300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15"/>
          <p:cNvCxnSpPr>
            <a:stCxn id="188" idx="4"/>
            <a:endCxn id="177" idx="0"/>
          </p:cNvCxnSpPr>
          <p:nvPr/>
        </p:nvCxnSpPr>
        <p:spPr>
          <a:xfrm>
            <a:off x="3847680" y="313200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90" name="Slide Number Placeholder 1"/>
          <p:cNvSpPr/>
          <p:nvPr/>
        </p:nvSpPr>
        <p:spPr>
          <a:xfrm>
            <a:off x="6172200" y="610092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. Media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M notation: Simplified notation for covari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EFA84-38A3-4B2B-96ED-3E5FC06A5A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1"/>
          <p:cNvSpPr/>
          <p:nvPr/>
        </p:nvSpPr>
        <p:spPr>
          <a:xfrm>
            <a:off x="6172200" y="610092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4000680" y="26748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058080" y="42750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AutoShape 5"/>
          <p:cNvCxnSpPr/>
          <p:nvPr/>
        </p:nvCxnSpPr>
        <p:spPr>
          <a:xfrm>
            <a:off x="5143680" y="3817800"/>
            <a:ext cx="9151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99" name="Freeform 6"/>
          <p:cNvSpPr/>
          <p:nvPr/>
        </p:nvSpPr>
        <p:spPr>
          <a:xfrm>
            <a:off x="4229280" y="221760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9"/>
          <p:cNvSpPr/>
          <p:nvPr/>
        </p:nvSpPr>
        <p:spPr>
          <a:xfrm flipH="1" rot="5400000">
            <a:off x="7086600" y="46173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2095560" y="42750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11"/>
          <p:cNvSpPr/>
          <p:nvPr/>
        </p:nvSpPr>
        <p:spPr>
          <a:xfrm rot="16200000">
            <a:off x="1523880" y="46173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AutoShape 12"/>
          <p:cNvCxnSpPr>
            <a:stCxn id="201" idx="3"/>
            <a:endCxn id="197" idx="1"/>
          </p:cNvCxnSpPr>
          <p:nvPr/>
        </p:nvCxnSpPr>
        <p:spPr>
          <a:xfrm>
            <a:off x="3238560" y="4846320"/>
            <a:ext cx="2820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04" name="AutoShape 13"/>
          <p:cNvCxnSpPr/>
          <p:nvPr/>
        </p:nvCxnSpPr>
        <p:spPr>
          <a:xfrm flipV="1">
            <a:off x="3238200" y="3817440"/>
            <a:ext cx="76284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. Complex path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M notation: Simplified notation for covari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5E507-DE7A-4051-8868-8C7177E124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1"/>
          <p:cNvSpPr/>
          <p:nvPr/>
        </p:nvSpPr>
        <p:spPr>
          <a:xfrm>
            <a:off x="6172200" y="610092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1184400" y="273528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6899400" y="342108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AutoShape 5"/>
          <p:cNvCxnSpPr>
            <a:stCxn id="210" idx="3"/>
            <a:endCxn id="213" idx="1"/>
          </p:cNvCxnSpPr>
          <p:nvPr/>
        </p:nvCxnSpPr>
        <p:spPr>
          <a:xfrm flipV="1">
            <a:off x="2327040" y="2544480"/>
            <a:ext cx="1981800" cy="76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14" name="Freeform 6"/>
          <p:cNvSpPr/>
          <p:nvPr/>
        </p:nvSpPr>
        <p:spPr>
          <a:xfrm rot="16200000">
            <a:off x="612720" y="307764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9"/>
          <p:cNvSpPr/>
          <p:nvPr/>
        </p:nvSpPr>
        <p:spPr>
          <a:xfrm flipH="1" rot="5400000">
            <a:off x="7927920" y="376344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1184400" y="456408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11"/>
          <p:cNvSpPr/>
          <p:nvPr/>
        </p:nvSpPr>
        <p:spPr>
          <a:xfrm rot="16200000">
            <a:off x="612720" y="490644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8" name="AutoShape 12"/>
          <p:cNvCxnSpPr>
            <a:stCxn id="210" idx="3"/>
            <a:endCxn id="211" idx="1"/>
          </p:cNvCxnSpPr>
          <p:nvPr/>
        </p:nvCxnSpPr>
        <p:spPr>
          <a:xfrm>
            <a:off x="2327400" y="3306240"/>
            <a:ext cx="457272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19" name="AutoShape 13"/>
          <p:cNvCxnSpPr>
            <a:stCxn id="216" idx="0"/>
            <a:endCxn id="210" idx="2"/>
          </p:cNvCxnSpPr>
          <p:nvPr/>
        </p:nvCxnSpPr>
        <p:spPr>
          <a:xfrm flipV="1">
            <a:off x="1755360" y="387756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</p:cxnSp>
      <p:sp>
        <p:nvSpPr>
          <p:cNvPr id="213" name="Rectangle 16"/>
          <p:cNvSpPr/>
          <p:nvPr/>
        </p:nvSpPr>
        <p:spPr>
          <a:xfrm>
            <a:off x="4308480" y="197316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7"/>
          <p:cNvSpPr/>
          <p:nvPr/>
        </p:nvSpPr>
        <p:spPr>
          <a:xfrm>
            <a:off x="4308480" y="50976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1" name="AutoShape 20"/>
          <p:cNvCxnSpPr>
            <a:stCxn id="213" idx="3"/>
            <a:endCxn id="211" idx="0"/>
          </p:cNvCxnSpPr>
          <p:nvPr/>
        </p:nvCxnSpPr>
        <p:spPr>
          <a:xfrm>
            <a:off x="5451120" y="2544840"/>
            <a:ext cx="2019960" cy="87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22" name="AutoShape 21"/>
          <p:cNvCxnSpPr>
            <a:stCxn id="213" idx="2"/>
            <a:endCxn id="220" idx="0"/>
          </p:cNvCxnSpPr>
          <p:nvPr/>
        </p:nvCxnSpPr>
        <p:spPr>
          <a:xfrm>
            <a:off x="4879440" y="3116160"/>
            <a:ext cx="1080" cy="198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23" name="AutoShape 22"/>
          <p:cNvCxnSpPr>
            <a:stCxn id="220" idx="3"/>
            <a:endCxn id="211" idx="2"/>
          </p:cNvCxnSpPr>
          <p:nvPr/>
        </p:nvCxnSpPr>
        <p:spPr>
          <a:xfrm flipV="1">
            <a:off x="5451120" y="4563360"/>
            <a:ext cx="2019960" cy="1105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24" name="AutoShape 23"/>
          <p:cNvCxnSpPr>
            <a:stCxn id="216" idx="3"/>
          </p:cNvCxnSpPr>
          <p:nvPr/>
        </p:nvCxnSpPr>
        <p:spPr>
          <a:xfrm flipV="1">
            <a:off x="2327040" y="3115440"/>
            <a:ext cx="1981800" cy="20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25" name="AutoShape 24"/>
          <p:cNvCxnSpPr>
            <a:stCxn id="216" idx="3"/>
            <a:endCxn id="220" idx="1"/>
          </p:cNvCxnSpPr>
          <p:nvPr/>
        </p:nvCxnSpPr>
        <p:spPr>
          <a:xfrm>
            <a:off x="2327040" y="5135400"/>
            <a:ext cx="198180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26" name="Freeform 25"/>
          <p:cNvSpPr/>
          <p:nvPr/>
        </p:nvSpPr>
        <p:spPr>
          <a:xfrm>
            <a:off x="4537080" y="15159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26"/>
          <p:cNvSpPr/>
          <p:nvPr/>
        </p:nvSpPr>
        <p:spPr>
          <a:xfrm flipV="1">
            <a:off x="4537080" y="624060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1"/>
          <p:cNvSpPr/>
          <p:nvPr/>
        </p:nvSpPr>
        <p:spPr>
          <a:xfrm>
            <a:off x="6594480" y="6161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. Confirmatory factor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M notation: Simplified notation for covari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EE8FC-5C17-42D0-AE14-72726B080A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lide Number Placeholder 1"/>
          <p:cNvSpPr/>
          <p:nvPr/>
        </p:nvSpPr>
        <p:spPr>
          <a:xfrm>
            <a:off x="6172200" y="610092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1"/>
          <p:cNvSpPr/>
          <p:nvPr/>
        </p:nvSpPr>
        <p:spPr>
          <a:xfrm>
            <a:off x="6594480" y="6161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152280" y="472428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AutoShape 4"/>
          <p:cNvCxnSpPr>
            <a:stCxn id="237" idx="4"/>
            <a:endCxn id="238" idx="0"/>
          </p:cNvCxnSpPr>
          <p:nvPr/>
        </p:nvCxnSpPr>
        <p:spPr>
          <a:xfrm flipH="1">
            <a:off x="2018520" y="3200040"/>
            <a:ext cx="76284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38" name="Rectangle 7"/>
          <p:cNvSpPr/>
          <p:nvPr/>
        </p:nvSpPr>
        <p:spPr>
          <a:xfrm>
            <a:off x="1447920" y="472428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reeform 8"/>
          <p:cNvSpPr/>
          <p:nvPr/>
        </p:nvSpPr>
        <p:spPr>
          <a:xfrm rot="10800000">
            <a:off x="1676160" y="58672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AutoShape 9"/>
          <p:cNvCxnSpPr>
            <a:stCxn id="237" idx="4"/>
            <a:endCxn id="235" idx="0"/>
          </p:cNvCxnSpPr>
          <p:nvPr/>
        </p:nvCxnSpPr>
        <p:spPr>
          <a:xfrm flipH="1">
            <a:off x="723600" y="3200040"/>
            <a:ext cx="205776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41" name="Rectangle 11"/>
          <p:cNvSpPr/>
          <p:nvPr/>
        </p:nvSpPr>
        <p:spPr>
          <a:xfrm>
            <a:off x="2743200" y="472428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2"/>
          <p:cNvSpPr/>
          <p:nvPr/>
        </p:nvSpPr>
        <p:spPr>
          <a:xfrm>
            <a:off x="4038480" y="472428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3" name="AutoShape 14"/>
          <p:cNvCxnSpPr>
            <a:stCxn id="244" idx="4"/>
            <a:endCxn id="245" idx="0"/>
          </p:cNvCxnSpPr>
          <p:nvPr/>
        </p:nvCxnSpPr>
        <p:spPr>
          <a:xfrm>
            <a:off x="5905080" y="3200040"/>
            <a:ext cx="108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46" name="AutoShape 15"/>
          <p:cNvCxnSpPr>
            <a:stCxn id="244" idx="4"/>
            <a:endCxn id="242" idx="0"/>
          </p:cNvCxnSpPr>
          <p:nvPr/>
        </p:nvCxnSpPr>
        <p:spPr>
          <a:xfrm flipH="1">
            <a:off x="4609800" y="3200040"/>
            <a:ext cx="129600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47" name="AutoShape 16"/>
          <p:cNvCxnSpPr>
            <a:stCxn id="244" idx="4"/>
            <a:endCxn id="248" idx="0"/>
          </p:cNvCxnSpPr>
          <p:nvPr/>
        </p:nvCxnSpPr>
        <p:spPr>
          <a:xfrm>
            <a:off x="5905080" y="3200040"/>
            <a:ext cx="129636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49" name="AutoShape 17"/>
          <p:cNvCxnSpPr>
            <a:stCxn id="237" idx="4"/>
            <a:endCxn id="242" idx="0"/>
          </p:cNvCxnSpPr>
          <p:nvPr/>
        </p:nvCxnSpPr>
        <p:spPr>
          <a:xfrm>
            <a:off x="2781360" y="3200040"/>
            <a:ext cx="182952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50" name="AutoShape 18"/>
          <p:cNvCxnSpPr>
            <a:stCxn id="237" idx="4"/>
            <a:endCxn id="241" idx="0"/>
          </p:cNvCxnSpPr>
          <p:nvPr/>
        </p:nvCxnSpPr>
        <p:spPr>
          <a:xfrm>
            <a:off x="2781360" y="3200040"/>
            <a:ext cx="53424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51" name="Freeform 19"/>
          <p:cNvSpPr/>
          <p:nvPr/>
        </p:nvSpPr>
        <p:spPr>
          <a:xfrm>
            <a:off x="5562720" y="167652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20"/>
          <p:cNvSpPr/>
          <p:nvPr/>
        </p:nvSpPr>
        <p:spPr>
          <a:xfrm flipV="1">
            <a:off x="4267080" y="58672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21"/>
          <p:cNvSpPr/>
          <p:nvPr/>
        </p:nvSpPr>
        <p:spPr>
          <a:xfrm rot="10800000">
            <a:off x="380520" y="58672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22"/>
          <p:cNvSpPr/>
          <p:nvPr/>
        </p:nvSpPr>
        <p:spPr>
          <a:xfrm>
            <a:off x="5334120" y="472428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23"/>
          <p:cNvSpPr/>
          <p:nvPr/>
        </p:nvSpPr>
        <p:spPr>
          <a:xfrm rot="10800000">
            <a:off x="5562360" y="58672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24"/>
          <p:cNvSpPr/>
          <p:nvPr/>
        </p:nvSpPr>
        <p:spPr>
          <a:xfrm>
            <a:off x="6629400" y="472428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5"/>
          <p:cNvSpPr/>
          <p:nvPr/>
        </p:nvSpPr>
        <p:spPr>
          <a:xfrm>
            <a:off x="7924680" y="472428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6" name="AutoShape 28"/>
          <p:cNvCxnSpPr>
            <a:stCxn id="244" idx="4"/>
            <a:endCxn id="255" idx="0"/>
          </p:cNvCxnSpPr>
          <p:nvPr/>
        </p:nvCxnSpPr>
        <p:spPr>
          <a:xfrm>
            <a:off x="5905080" y="3200040"/>
            <a:ext cx="259164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57" name="Freeform 29"/>
          <p:cNvSpPr/>
          <p:nvPr/>
        </p:nvSpPr>
        <p:spPr>
          <a:xfrm flipV="1">
            <a:off x="8153280" y="58672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30"/>
          <p:cNvSpPr/>
          <p:nvPr/>
        </p:nvSpPr>
        <p:spPr>
          <a:xfrm rot="10800000">
            <a:off x="6857640" y="58672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31"/>
          <p:cNvSpPr/>
          <p:nvPr/>
        </p:nvSpPr>
        <p:spPr>
          <a:xfrm rot="10800000">
            <a:off x="2971440" y="58672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32"/>
          <p:cNvSpPr/>
          <p:nvPr/>
        </p:nvSpPr>
        <p:spPr>
          <a:xfrm>
            <a:off x="2209680" y="2057400"/>
            <a:ext cx="114300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33"/>
          <p:cNvSpPr/>
          <p:nvPr/>
        </p:nvSpPr>
        <p:spPr>
          <a:xfrm>
            <a:off x="5334120" y="2057400"/>
            <a:ext cx="114300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AutoShape 34"/>
          <p:cNvCxnSpPr>
            <a:stCxn id="237" idx="7"/>
            <a:endCxn id="244" idx="1"/>
          </p:cNvCxnSpPr>
          <p:nvPr/>
        </p:nvCxnSpPr>
        <p:spPr>
          <a:xfrm flipH="1" rot="16200000">
            <a:off x="4342680" y="1067040"/>
            <a:ext cx="2160" cy="2315520"/>
          </a:xfrm>
          <a:prstGeom prst="curvedConnector5">
            <a:avLst>
              <a:gd name="adj1" fmla="val -24900000"/>
              <a:gd name="adj2" fmla="val 49992"/>
              <a:gd name="adj3" fmla="val -249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61" name="Freeform 35"/>
          <p:cNvSpPr/>
          <p:nvPr/>
        </p:nvSpPr>
        <p:spPr>
          <a:xfrm>
            <a:off x="2438280" y="167652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1143000" y="521964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3" name="AutoShape 3"/>
          <p:cNvCxnSpPr>
            <a:stCxn id="264" idx="4"/>
            <a:endCxn id="265" idx="0"/>
          </p:cNvCxnSpPr>
          <p:nvPr/>
        </p:nvCxnSpPr>
        <p:spPr>
          <a:xfrm>
            <a:off x="2323800" y="4762440"/>
            <a:ext cx="6865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65" name="Rectangle 4"/>
          <p:cNvSpPr/>
          <p:nvPr/>
        </p:nvSpPr>
        <p:spPr>
          <a:xfrm>
            <a:off x="2438280" y="521964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5"/>
          <p:cNvSpPr/>
          <p:nvPr/>
        </p:nvSpPr>
        <p:spPr>
          <a:xfrm rot="10800000">
            <a:off x="2666520" y="636264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7" name="AutoShape 6"/>
          <p:cNvCxnSpPr>
            <a:stCxn id="264" idx="4"/>
            <a:endCxn id="262" idx="0"/>
          </p:cNvCxnSpPr>
          <p:nvPr/>
        </p:nvCxnSpPr>
        <p:spPr>
          <a:xfrm flipH="1">
            <a:off x="1713960" y="4762440"/>
            <a:ext cx="6102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68" name="Rectangle 7"/>
          <p:cNvSpPr/>
          <p:nvPr/>
        </p:nvSpPr>
        <p:spPr>
          <a:xfrm>
            <a:off x="4800600" y="53352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8"/>
          <p:cNvSpPr/>
          <p:nvPr/>
        </p:nvSpPr>
        <p:spPr>
          <a:xfrm>
            <a:off x="6095880" y="53352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0" name="AutoShape 10"/>
          <p:cNvCxnSpPr>
            <a:stCxn id="271" idx="4"/>
            <a:endCxn id="272" idx="0"/>
          </p:cNvCxnSpPr>
          <p:nvPr/>
        </p:nvCxnSpPr>
        <p:spPr>
          <a:xfrm flipH="1">
            <a:off x="5829120" y="4762440"/>
            <a:ext cx="12960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73" name="AutoShape 12"/>
          <p:cNvCxnSpPr>
            <a:stCxn id="271" idx="4"/>
            <a:endCxn id="274" idx="0"/>
          </p:cNvCxnSpPr>
          <p:nvPr/>
        </p:nvCxnSpPr>
        <p:spPr>
          <a:xfrm>
            <a:off x="7124400" y="47624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75" name="AutoShape 13"/>
          <p:cNvCxnSpPr>
            <a:stCxn id="276" idx="0"/>
            <a:endCxn id="269" idx="2"/>
          </p:cNvCxnSpPr>
          <p:nvPr/>
        </p:nvCxnSpPr>
        <p:spPr>
          <a:xfrm flipV="1">
            <a:off x="6057720" y="1676160"/>
            <a:ext cx="6102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77" name="AutoShape 14"/>
          <p:cNvCxnSpPr>
            <a:stCxn id="276" idx="0"/>
            <a:endCxn id="268" idx="2"/>
          </p:cNvCxnSpPr>
          <p:nvPr/>
        </p:nvCxnSpPr>
        <p:spPr>
          <a:xfrm flipH="1" flipV="1">
            <a:off x="5371560" y="1676160"/>
            <a:ext cx="6865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78" name="Freeform 15"/>
          <p:cNvSpPr/>
          <p:nvPr/>
        </p:nvSpPr>
        <p:spPr>
          <a:xfrm>
            <a:off x="6781680" y="32385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16"/>
          <p:cNvSpPr/>
          <p:nvPr/>
        </p:nvSpPr>
        <p:spPr>
          <a:xfrm>
            <a:off x="6324480" y="7632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17"/>
          <p:cNvSpPr/>
          <p:nvPr/>
        </p:nvSpPr>
        <p:spPr>
          <a:xfrm rot="10800000">
            <a:off x="1371240" y="636264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8"/>
          <p:cNvSpPr/>
          <p:nvPr/>
        </p:nvSpPr>
        <p:spPr>
          <a:xfrm>
            <a:off x="5257800" y="521964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19"/>
          <p:cNvSpPr/>
          <p:nvPr/>
        </p:nvSpPr>
        <p:spPr>
          <a:xfrm rot="10800000">
            <a:off x="5486040" y="636264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0"/>
          <p:cNvSpPr/>
          <p:nvPr/>
        </p:nvSpPr>
        <p:spPr>
          <a:xfrm>
            <a:off x="6553080" y="521964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21"/>
          <p:cNvSpPr/>
          <p:nvPr/>
        </p:nvSpPr>
        <p:spPr>
          <a:xfrm>
            <a:off x="7848720" y="521964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3" name="AutoShape 22"/>
          <p:cNvCxnSpPr>
            <a:stCxn id="271" idx="4"/>
            <a:endCxn id="282" idx="0"/>
          </p:cNvCxnSpPr>
          <p:nvPr/>
        </p:nvCxnSpPr>
        <p:spPr>
          <a:xfrm>
            <a:off x="7124760" y="4762440"/>
            <a:ext cx="12960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84" name="Freeform 23"/>
          <p:cNvSpPr/>
          <p:nvPr/>
        </p:nvSpPr>
        <p:spPr>
          <a:xfrm flipV="1">
            <a:off x="8077320" y="636264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24"/>
          <p:cNvSpPr/>
          <p:nvPr/>
        </p:nvSpPr>
        <p:spPr>
          <a:xfrm rot="10800000">
            <a:off x="6781320" y="636264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25"/>
          <p:cNvSpPr/>
          <p:nvPr/>
        </p:nvSpPr>
        <p:spPr>
          <a:xfrm flipV="1" rot="10800000">
            <a:off x="5028840" y="7632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26"/>
          <p:cNvSpPr/>
          <p:nvPr/>
        </p:nvSpPr>
        <p:spPr>
          <a:xfrm>
            <a:off x="1752480" y="3619440"/>
            <a:ext cx="114300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27"/>
          <p:cNvSpPr/>
          <p:nvPr/>
        </p:nvSpPr>
        <p:spPr>
          <a:xfrm>
            <a:off x="6553080" y="3619440"/>
            <a:ext cx="114300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29"/>
          <p:cNvSpPr/>
          <p:nvPr/>
        </p:nvSpPr>
        <p:spPr>
          <a:xfrm>
            <a:off x="1981080" y="32385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31"/>
          <p:cNvSpPr/>
          <p:nvPr/>
        </p:nvSpPr>
        <p:spPr>
          <a:xfrm>
            <a:off x="5486400" y="2133720"/>
            <a:ext cx="114300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8" name="AutoShape 33"/>
          <p:cNvCxnSpPr>
            <a:stCxn id="264" idx="7"/>
            <a:endCxn id="276" idx="2"/>
          </p:cNvCxnSpPr>
          <p:nvPr/>
        </p:nvCxnSpPr>
        <p:spPr>
          <a:xfrm flipV="1">
            <a:off x="2728800" y="2704320"/>
            <a:ext cx="2758320" cy="10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89" name="AutoShape 34"/>
          <p:cNvCxnSpPr>
            <a:stCxn id="264" idx="6"/>
            <a:endCxn id="271" idx="2"/>
          </p:cNvCxnSpPr>
          <p:nvPr/>
        </p:nvCxnSpPr>
        <p:spPr>
          <a:xfrm>
            <a:off x="2895480" y="4190760"/>
            <a:ext cx="3658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90" name="AutoShape 35"/>
          <p:cNvCxnSpPr>
            <a:endCxn id="271" idx="1"/>
          </p:cNvCxnSpPr>
          <p:nvPr/>
        </p:nvCxnSpPr>
        <p:spPr>
          <a:xfrm>
            <a:off x="6324480" y="3238200"/>
            <a:ext cx="396000" cy="548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91" name="Freeform 36"/>
          <p:cNvSpPr/>
          <p:nvPr/>
        </p:nvSpPr>
        <p:spPr>
          <a:xfrm flipH="1" rot="5400000">
            <a:off x="6438600" y="24760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3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0F2CB-702B-4688-BDA3-E0DD7BBBBB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2"/>
          <p:cNvSpPr/>
          <p:nvPr/>
        </p:nvSpPr>
        <p:spPr>
          <a:xfrm>
            <a:off x="0" y="0"/>
            <a:ext cx="457200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. Latent variable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th mod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4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for multitrait-multimethod dat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59031-85E1-4CFA-9009-C95DB3FAA8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2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en more complex measurement mode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2" descr=""/>
          <p:cNvPicPr/>
          <p:nvPr/>
        </p:nvPicPr>
        <p:blipFill>
          <a:blip r:embed="rId1"/>
          <a:stretch/>
        </p:blipFill>
        <p:spPr>
          <a:xfrm>
            <a:off x="1752480" y="941400"/>
            <a:ext cx="5639040" cy="497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3" descr=""/>
          <p:cNvPicPr/>
          <p:nvPr/>
        </p:nvPicPr>
        <p:blipFill>
          <a:blip r:embed="rId1"/>
          <a:stretch/>
        </p:blipFill>
        <p:spPr>
          <a:xfrm>
            <a:off x="1295280" y="914400"/>
            <a:ext cx="6477120" cy="594360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ABE46-8922-4C47-8BEB-B66FE86E3C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2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en more complex latent variable path mode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ructural Regression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lculating Expectations with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ath Tracing R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91E91-5878-4912-9FC9-1CCC12943E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90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=   intercept, predicted value of Y when predictors (X) are z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=   slope coefficient, predicted amount of change in Y for a 1-unit change in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=   residual, part of Y not predicted by X, uncorrelated with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nc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decomposed into variance explain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unexplained variance (varianc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" name="Object 4"/>
          <p:cNvGraphicFramePr/>
          <p:nvPr/>
        </p:nvGraphicFramePr>
        <p:xfrm>
          <a:off x="2286000" y="1492200"/>
          <a:ext cx="4419720" cy="64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492200"/>
                    <a:ext cx="441972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D82E5-B140-4B62-9ECA-3384FB0284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gression and Structural Regre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between Theory and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 requires researchers to be explicit about hypotheses (and assum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accessible framework for articulation of theoretical conje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framework for represent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ronts key ques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theory or data driving the structural model being tes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not oversell contributions of S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-called “causal models” in SEM provide no more “causal analysis” than other forms of data analysis – and maybe rather weaker, if data are w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3CADC-20F4-451D-A61F-B42F48FE06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3"/>
          <p:cNvSpPr/>
          <p:nvPr/>
        </p:nvSpPr>
        <p:spPr>
          <a:xfrm>
            <a:off x="1333440" y="2590920"/>
            <a:ext cx="1143000" cy="1143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4000680" y="2590920"/>
            <a:ext cx="1143000" cy="1143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5"/>
          <p:cNvSpPr/>
          <p:nvPr/>
        </p:nvSpPr>
        <p:spPr>
          <a:xfrm>
            <a:off x="6438960" y="2590920"/>
            <a:ext cx="1143000" cy="114300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6" name="AutoShape 6"/>
          <p:cNvCxnSpPr>
            <a:stCxn id="313" idx="3"/>
            <a:endCxn id="314" idx="1"/>
          </p:cNvCxnSpPr>
          <p:nvPr/>
        </p:nvCxnSpPr>
        <p:spPr>
          <a:xfrm>
            <a:off x="2476440" y="3161880"/>
            <a:ext cx="1524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7" name="AutoShape 7"/>
          <p:cNvCxnSpPr>
            <a:stCxn id="315" idx="2"/>
            <a:endCxn id="314" idx="3"/>
          </p:cNvCxnSpPr>
          <p:nvPr/>
        </p:nvCxnSpPr>
        <p:spPr>
          <a:xfrm flipH="1">
            <a:off x="5143320" y="3161880"/>
            <a:ext cx="1296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8" name="Freeform 8"/>
          <p:cNvSpPr/>
          <p:nvPr/>
        </p:nvSpPr>
        <p:spPr>
          <a:xfrm rot="5400000">
            <a:off x="7429320" y="2895480"/>
            <a:ext cx="685800" cy="53352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9"/>
          <p:cNvSpPr/>
          <p:nvPr/>
        </p:nvSpPr>
        <p:spPr>
          <a:xfrm>
            <a:off x="2933640" y="2514600"/>
            <a:ext cx="838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0"/>
          <p:cNvSpPr/>
          <p:nvPr/>
        </p:nvSpPr>
        <p:spPr>
          <a:xfrm>
            <a:off x="7962840" y="2514600"/>
            <a:ext cx="83844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1"/>
          <p:cNvSpPr/>
          <p:nvPr/>
        </p:nvSpPr>
        <p:spPr>
          <a:xfrm>
            <a:off x="304920" y="2225520"/>
            <a:ext cx="83808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 flipH="1" rot="16200000">
            <a:off x="722880" y="2895840"/>
            <a:ext cx="685800" cy="53316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Object 19"/>
          <p:cNvGraphicFramePr/>
          <p:nvPr/>
        </p:nvGraphicFramePr>
        <p:xfrm>
          <a:off x="5040360" y="4827600"/>
          <a:ext cx="2987640" cy="62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0360" y="4827600"/>
                    <a:ext cx="298764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Text Box 20"/>
          <p:cNvSpPr/>
          <p:nvPr/>
        </p:nvSpPr>
        <p:spPr>
          <a:xfrm>
            <a:off x="5676840" y="26208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E983F-9DED-4D33-9576-074AB63B7F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ructural Regression: Model for Covaria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3"/>
          <p:cNvSpPr/>
          <p:nvPr/>
        </p:nvSpPr>
        <p:spPr>
          <a:xfrm>
            <a:off x="1371600" y="1752480"/>
            <a:ext cx="1143000" cy="1143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4038480" y="1752480"/>
            <a:ext cx="1143000" cy="1143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5"/>
          <p:cNvSpPr/>
          <p:nvPr/>
        </p:nvSpPr>
        <p:spPr>
          <a:xfrm>
            <a:off x="6477120" y="1752480"/>
            <a:ext cx="1143000" cy="114300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2" name="AutoShape 6"/>
          <p:cNvCxnSpPr>
            <a:stCxn id="329" idx="3"/>
            <a:endCxn id="330" idx="1"/>
          </p:cNvCxnSpPr>
          <p:nvPr/>
        </p:nvCxnSpPr>
        <p:spPr>
          <a:xfrm>
            <a:off x="2514240" y="2323800"/>
            <a:ext cx="1524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3" name="AutoShape 7"/>
          <p:cNvCxnSpPr>
            <a:stCxn id="331" idx="2"/>
            <a:endCxn id="330" idx="3"/>
          </p:cNvCxnSpPr>
          <p:nvPr/>
        </p:nvCxnSpPr>
        <p:spPr>
          <a:xfrm flipH="1">
            <a:off x="5180760" y="2323800"/>
            <a:ext cx="129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4" name="Freeform 8"/>
          <p:cNvSpPr/>
          <p:nvPr/>
        </p:nvSpPr>
        <p:spPr>
          <a:xfrm rot="5400000">
            <a:off x="7467480" y="2057040"/>
            <a:ext cx="685800" cy="53352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9"/>
          <p:cNvSpPr/>
          <p:nvPr/>
        </p:nvSpPr>
        <p:spPr>
          <a:xfrm>
            <a:off x="2971800" y="1676520"/>
            <a:ext cx="838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0"/>
          <p:cNvSpPr/>
          <p:nvPr/>
        </p:nvSpPr>
        <p:spPr>
          <a:xfrm>
            <a:off x="8001000" y="1676520"/>
            <a:ext cx="83808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1"/>
          <p:cNvSpPr/>
          <p:nvPr/>
        </p:nvSpPr>
        <p:spPr>
          <a:xfrm>
            <a:off x="152280" y="1676520"/>
            <a:ext cx="83844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12"/>
          <p:cNvSpPr/>
          <p:nvPr/>
        </p:nvSpPr>
        <p:spPr>
          <a:xfrm>
            <a:off x="1371600" y="4038480"/>
            <a:ext cx="1143000" cy="1143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9" name="AutoShape 13"/>
          <p:cNvCxnSpPr>
            <a:stCxn id="338" idx="5"/>
          </p:cNvCxnSpPr>
          <p:nvPr/>
        </p:nvCxnSpPr>
        <p:spPr>
          <a:xfrm flipV="1">
            <a:off x="2228400" y="2894760"/>
            <a:ext cx="1810440" cy="171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0" name="AutoShape 14"/>
          <p:cNvCxnSpPr>
            <a:stCxn id="338" idx="0"/>
            <a:endCxn id="329" idx="2"/>
          </p:cNvCxnSpPr>
          <p:nvPr/>
        </p:nvCxnSpPr>
        <p:spPr>
          <a:xfrm flipV="1">
            <a:off x="1942920" y="2894760"/>
            <a:ext cx="108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1" name="Freeform 15"/>
          <p:cNvSpPr/>
          <p:nvPr/>
        </p:nvSpPr>
        <p:spPr>
          <a:xfrm flipH="1" rot="16200000">
            <a:off x="761760" y="2057040"/>
            <a:ext cx="685800" cy="53352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16"/>
          <p:cNvSpPr/>
          <p:nvPr/>
        </p:nvSpPr>
        <p:spPr>
          <a:xfrm flipH="1" rot="10800000">
            <a:off x="1599120" y="5181480"/>
            <a:ext cx="685800" cy="53352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7"/>
          <p:cNvSpPr/>
          <p:nvPr/>
        </p:nvSpPr>
        <p:spPr>
          <a:xfrm>
            <a:off x="2895480" y="2967120"/>
            <a:ext cx="838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8"/>
          <p:cNvSpPr/>
          <p:nvPr/>
        </p:nvSpPr>
        <p:spPr>
          <a:xfrm>
            <a:off x="1905120" y="3200400"/>
            <a:ext cx="838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5" name="Object 19"/>
          <p:cNvGraphicFramePr/>
          <p:nvPr/>
        </p:nvGraphicFramePr>
        <p:xfrm>
          <a:off x="4381560" y="4827600"/>
          <a:ext cx="4305240" cy="62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560" y="4827600"/>
                    <a:ext cx="430524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Text Box 20"/>
          <p:cNvSpPr/>
          <p:nvPr/>
        </p:nvSpPr>
        <p:spPr>
          <a:xfrm>
            <a:off x="5715000" y="178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AE832-7BA0-4A7A-986D-2E0B100DC6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ructural Regression: Model with Me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3"/>
          <p:cNvSpPr/>
          <p:nvPr/>
        </p:nvSpPr>
        <p:spPr>
          <a:xfrm>
            <a:off x="1371600" y="1752480"/>
            <a:ext cx="1143000" cy="1143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4038480" y="1752480"/>
            <a:ext cx="1143000" cy="1143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3" name="AutoShape 5"/>
          <p:cNvCxnSpPr>
            <a:stCxn id="351" idx="3"/>
            <a:endCxn id="352" idx="1"/>
          </p:cNvCxnSpPr>
          <p:nvPr/>
        </p:nvCxnSpPr>
        <p:spPr>
          <a:xfrm>
            <a:off x="2514240" y="2323800"/>
            <a:ext cx="1524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4" name="Freeform 6"/>
          <p:cNvSpPr/>
          <p:nvPr/>
        </p:nvSpPr>
        <p:spPr>
          <a:xfrm rot="5400000">
            <a:off x="5105160" y="2057040"/>
            <a:ext cx="685800" cy="53352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7"/>
          <p:cNvSpPr/>
          <p:nvPr/>
        </p:nvSpPr>
        <p:spPr>
          <a:xfrm>
            <a:off x="2971800" y="1676520"/>
            <a:ext cx="838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8"/>
          <p:cNvSpPr/>
          <p:nvPr/>
        </p:nvSpPr>
        <p:spPr>
          <a:xfrm>
            <a:off x="5638680" y="1676520"/>
            <a:ext cx="83844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9"/>
          <p:cNvSpPr/>
          <p:nvPr/>
        </p:nvSpPr>
        <p:spPr>
          <a:xfrm>
            <a:off x="152280" y="1676520"/>
            <a:ext cx="83844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10"/>
          <p:cNvSpPr/>
          <p:nvPr/>
        </p:nvSpPr>
        <p:spPr>
          <a:xfrm>
            <a:off x="1371600" y="4038480"/>
            <a:ext cx="1143000" cy="1143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9" name="AutoShape 11"/>
          <p:cNvCxnSpPr>
            <a:stCxn id="358" idx="5"/>
          </p:cNvCxnSpPr>
          <p:nvPr/>
        </p:nvCxnSpPr>
        <p:spPr>
          <a:xfrm flipV="1">
            <a:off x="2228400" y="2894760"/>
            <a:ext cx="1810440" cy="171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0" name="AutoShape 12"/>
          <p:cNvCxnSpPr>
            <a:stCxn id="358" idx="0"/>
            <a:endCxn id="351" idx="2"/>
          </p:cNvCxnSpPr>
          <p:nvPr/>
        </p:nvCxnSpPr>
        <p:spPr>
          <a:xfrm flipV="1">
            <a:off x="1942920" y="2894760"/>
            <a:ext cx="108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1" name="Freeform 13"/>
          <p:cNvSpPr/>
          <p:nvPr/>
        </p:nvSpPr>
        <p:spPr>
          <a:xfrm flipH="1" rot="16200000">
            <a:off x="761760" y="2057040"/>
            <a:ext cx="685800" cy="53352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reeform 14"/>
          <p:cNvSpPr/>
          <p:nvPr/>
        </p:nvSpPr>
        <p:spPr>
          <a:xfrm flipH="1" rot="10800000">
            <a:off x="1599120" y="5181480"/>
            <a:ext cx="685800" cy="53352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5"/>
          <p:cNvSpPr/>
          <p:nvPr/>
        </p:nvSpPr>
        <p:spPr>
          <a:xfrm>
            <a:off x="2895480" y="2933640"/>
            <a:ext cx="838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6"/>
          <p:cNvSpPr/>
          <p:nvPr/>
        </p:nvSpPr>
        <p:spPr>
          <a:xfrm>
            <a:off x="1905120" y="3200400"/>
            <a:ext cx="838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5" name="Object 17"/>
          <p:cNvGraphicFramePr/>
          <p:nvPr/>
        </p:nvGraphicFramePr>
        <p:xfrm>
          <a:off x="4381560" y="4827600"/>
          <a:ext cx="4305240" cy="62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6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560" y="4827600"/>
                    <a:ext cx="430524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Rectangle 1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F77B4-DE01-4067-9FCD-CA59E3B8F8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ructural Regression: Shortened No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ructural Expec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 structural model has a set of structural 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nce / covariance expec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 expec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estimate 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between structural expectations (with estimated parameters) and observed statistics (e.g., covariances, means) is model mis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s can be calculated based on a path diagram or computed algebra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BC569-7325-4E4D-8F1D-4E97D89B1F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Oval 3"/>
          <p:cNvSpPr/>
          <p:nvPr/>
        </p:nvSpPr>
        <p:spPr>
          <a:xfrm>
            <a:off x="5486400" y="1981080"/>
            <a:ext cx="762120" cy="76212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4"/>
          <p:cNvSpPr/>
          <p:nvPr/>
        </p:nvSpPr>
        <p:spPr>
          <a:xfrm>
            <a:off x="2895480" y="1981080"/>
            <a:ext cx="762120" cy="76212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val 5"/>
          <p:cNvSpPr/>
          <p:nvPr/>
        </p:nvSpPr>
        <p:spPr>
          <a:xfrm>
            <a:off x="2895480" y="4724280"/>
            <a:ext cx="762120" cy="76212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6"/>
          <p:cNvSpPr/>
          <p:nvPr/>
        </p:nvSpPr>
        <p:spPr>
          <a:xfrm>
            <a:off x="5486400" y="4724280"/>
            <a:ext cx="762120" cy="76212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AutoShape 7"/>
          <p:cNvCxnSpPr>
            <a:stCxn id="375" idx="6"/>
            <a:endCxn id="374" idx="2"/>
          </p:cNvCxnSpPr>
          <p:nvPr/>
        </p:nvCxnSpPr>
        <p:spPr>
          <a:xfrm>
            <a:off x="3657600" y="23619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9" name="AutoShape 8"/>
          <p:cNvCxnSpPr>
            <a:stCxn id="376" idx="6"/>
            <a:endCxn id="377" idx="2"/>
          </p:cNvCxnSpPr>
          <p:nvPr/>
        </p:nvCxnSpPr>
        <p:spPr>
          <a:xfrm>
            <a:off x="3657600" y="5105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0" name="AutoShape 9"/>
          <p:cNvCxnSpPr>
            <a:stCxn id="376" idx="2"/>
            <a:endCxn id="375" idx="2"/>
          </p:cNvCxnSpPr>
          <p:nvPr/>
        </p:nvCxnSpPr>
        <p:spPr>
          <a:xfrm flipH="1" rot="10800000">
            <a:off x="2894400" y="2361600"/>
            <a:ext cx="2520" cy="2743920"/>
          </a:xfrm>
          <a:prstGeom prst="curvedConnector5">
            <a:avLst>
              <a:gd name="adj1" fmla="val -40600000"/>
              <a:gd name="adj2" fmla="val 49993"/>
              <a:gd name="adj3" fmla="val -406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81" name="AutoShape 10"/>
          <p:cNvCxnSpPr>
            <a:stCxn id="377" idx="5"/>
            <a:endCxn id="377" idx="3"/>
          </p:cNvCxnSpPr>
          <p:nvPr/>
        </p:nvCxnSpPr>
        <p:spPr>
          <a:xfrm rot="5400000">
            <a:off x="5865840" y="5105880"/>
            <a:ext cx="2520" cy="540360"/>
          </a:xfrm>
          <a:prstGeom prst="curvedConnector5">
            <a:avLst>
              <a:gd name="adj1" fmla="val 21400000"/>
              <a:gd name="adj2" fmla="val 50000"/>
              <a:gd name="adj3" fmla="val 214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82" name="AutoShape 11"/>
          <p:cNvCxnSpPr>
            <a:stCxn id="374" idx="1"/>
            <a:endCxn id="374" idx="7"/>
          </p:cNvCxnSpPr>
          <p:nvPr/>
        </p:nvCxnSpPr>
        <p:spPr>
          <a:xfrm flipH="1" rot="16200000">
            <a:off x="5866560" y="1823040"/>
            <a:ext cx="2160" cy="540360"/>
          </a:xfrm>
          <a:prstGeom prst="curvedConnector5">
            <a:avLst>
              <a:gd name="adj1" fmla="val -21400000"/>
              <a:gd name="adj2" fmla="val 50000"/>
              <a:gd name="adj3" fmla="val -214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83" name="AutoShape 12"/>
          <p:cNvCxnSpPr>
            <a:stCxn id="375" idx="1"/>
            <a:endCxn id="375" idx="7"/>
          </p:cNvCxnSpPr>
          <p:nvPr/>
        </p:nvCxnSpPr>
        <p:spPr>
          <a:xfrm flipH="1" rot="16200000">
            <a:off x="3275640" y="1823040"/>
            <a:ext cx="2160" cy="540360"/>
          </a:xfrm>
          <a:prstGeom prst="curvedConnector5">
            <a:avLst>
              <a:gd name="adj1" fmla="val -21400000"/>
              <a:gd name="adj2" fmla="val 50000"/>
              <a:gd name="adj3" fmla="val -214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84" name="AutoShape 13"/>
          <p:cNvCxnSpPr>
            <a:stCxn id="376" idx="3"/>
            <a:endCxn id="376" idx="5"/>
          </p:cNvCxnSpPr>
          <p:nvPr/>
        </p:nvCxnSpPr>
        <p:spPr>
          <a:xfrm flipH="1" rot="16200000">
            <a:off x="3274560" y="5105880"/>
            <a:ext cx="2520" cy="540360"/>
          </a:xfrm>
          <a:prstGeom prst="curvedConnector5">
            <a:avLst>
              <a:gd name="adj1" fmla="val 21400000"/>
              <a:gd name="adj2" fmla="val 50000"/>
              <a:gd name="adj3" fmla="val 214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85" name="Text Box 14"/>
          <p:cNvSpPr/>
          <p:nvPr/>
        </p:nvSpPr>
        <p:spPr>
          <a:xfrm>
            <a:off x="5943600" y="144792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X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15"/>
          <p:cNvSpPr/>
          <p:nvPr/>
        </p:nvSpPr>
        <p:spPr>
          <a:xfrm>
            <a:off x="3352680" y="144792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X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6"/>
          <p:cNvSpPr/>
          <p:nvPr/>
        </p:nvSpPr>
        <p:spPr>
          <a:xfrm>
            <a:off x="5943600" y="541008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Y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17"/>
          <p:cNvSpPr/>
          <p:nvPr/>
        </p:nvSpPr>
        <p:spPr>
          <a:xfrm>
            <a:off x="3352680" y="541008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Y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8"/>
          <p:cNvSpPr/>
          <p:nvPr/>
        </p:nvSpPr>
        <p:spPr>
          <a:xfrm>
            <a:off x="4343400" y="464832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9"/>
          <p:cNvSpPr/>
          <p:nvPr/>
        </p:nvSpPr>
        <p:spPr>
          <a:xfrm>
            <a:off x="4343400" y="190512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20"/>
          <p:cNvSpPr/>
          <p:nvPr/>
        </p:nvSpPr>
        <p:spPr>
          <a:xfrm>
            <a:off x="2209680" y="335268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X1,Y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2" name="AutoShape 21"/>
          <p:cNvCxnSpPr>
            <a:stCxn id="376" idx="7"/>
            <a:endCxn id="374" idx="3"/>
          </p:cNvCxnSpPr>
          <p:nvPr/>
        </p:nvCxnSpPr>
        <p:spPr>
          <a:xfrm flipV="1">
            <a:off x="3546360" y="2631240"/>
            <a:ext cx="2052000" cy="2204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3" name="Text Box 22"/>
          <p:cNvSpPr/>
          <p:nvPr/>
        </p:nvSpPr>
        <p:spPr>
          <a:xfrm>
            <a:off x="4343400" y="365760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2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DFE93-1F95-4E51-BB51-E9F3697541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lculating Covariance Expec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7" name="Object 3"/>
          <p:cNvGraphicFramePr/>
          <p:nvPr/>
        </p:nvGraphicFramePr>
        <p:xfrm>
          <a:off x="1774800" y="1711440"/>
          <a:ext cx="2468520" cy="57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4800" y="1711440"/>
                    <a:ext cx="2468520" cy="57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9" name="Object 4"/>
          <p:cNvGraphicFramePr/>
          <p:nvPr/>
        </p:nvGraphicFramePr>
        <p:xfrm>
          <a:off x="1784520" y="2352600"/>
          <a:ext cx="7327800" cy="115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84520" y="2352600"/>
                    <a:ext cx="732780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1" name="Object 5"/>
          <p:cNvGraphicFramePr/>
          <p:nvPr/>
        </p:nvGraphicFramePr>
        <p:xfrm>
          <a:off x="1585800" y="4944960"/>
          <a:ext cx="4675320" cy="604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2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85800" y="4944960"/>
                    <a:ext cx="467532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3" name="Object 6"/>
          <p:cNvGraphicFramePr/>
          <p:nvPr/>
        </p:nvGraphicFramePr>
        <p:xfrm>
          <a:off x="1635120" y="5648400"/>
          <a:ext cx="5603760" cy="595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4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35120" y="5648400"/>
                    <a:ext cx="5603760" cy="59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5" name="Object 7"/>
          <p:cNvGraphicFramePr/>
          <p:nvPr/>
        </p:nvGraphicFramePr>
        <p:xfrm>
          <a:off x="1600200" y="4367160"/>
          <a:ext cx="2819520" cy="617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6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00200" y="4367160"/>
                    <a:ext cx="281952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7" name="Text Box 8"/>
          <p:cNvSpPr/>
          <p:nvPr/>
        </p:nvSpPr>
        <p:spPr>
          <a:xfrm>
            <a:off x="685800" y="112716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Variance Expectations (Selected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685800" y="364968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ovariance Expectations (Selected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765C5-171D-4F00-913A-978065B110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lculating Covariance Expec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Oval 3"/>
          <p:cNvSpPr/>
          <p:nvPr/>
        </p:nvSpPr>
        <p:spPr>
          <a:xfrm>
            <a:off x="6477120" y="1981080"/>
            <a:ext cx="761760" cy="76212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val 4"/>
          <p:cNvSpPr/>
          <p:nvPr/>
        </p:nvSpPr>
        <p:spPr>
          <a:xfrm>
            <a:off x="3886200" y="1981080"/>
            <a:ext cx="762120" cy="76212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Oval 5"/>
          <p:cNvSpPr/>
          <p:nvPr/>
        </p:nvSpPr>
        <p:spPr>
          <a:xfrm>
            <a:off x="3886200" y="4724280"/>
            <a:ext cx="762120" cy="76212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Oval 6"/>
          <p:cNvSpPr/>
          <p:nvPr/>
        </p:nvSpPr>
        <p:spPr>
          <a:xfrm>
            <a:off x="6477120" y="4724280"/>
            <a:ext cx="761760" cy="76212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6" name="AutoShape 7"/>
          <p:cNvCxnSpPr>
            <a:stCxn id="413" idx="6"/>
            <a:endCxn id="412" idx="2"/>
          </p:cNvCxnSpPr>
          <p:nvPr/>
        </p:nvCxnSpPr>
        <p:spPr>
          <a:xfrm>
            <a:off x="4648320" y="23619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7" name="AutoShape 8"/>
          <p:cNvCxnSpPr>
            <a:stCxn id="414" idx="6"/>
            <a:endCxn id="415" idx="2"/>
          </p:cNvCxnSpPr>
          <p:nvPr/>
        </p:nvCxnSpPr>
        <p:spPr>
          <a:xfrm>
            <a:off x="4648320" y="5105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8" name="Text Box 9"/>
          <p:cNvSpPr/>
          <p:nvPr/>
        </p:nvSpPr>
        <p:spPr>
          <a:xfrm>
            <a:off x="5334120" y="464832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0"/>
          <p:cNvSpPr/>
          <p:nvPr/>
        </p:nvSpPr>
        <p:spPr>
          <a:xfrm>
            <a:off x="5334120" y="190512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11"/>
          <p:cNvSpPr/>
          <p:nvPr/>
        </p:nvSpPr>
        <p:spPr>
          <a:xfrm rot="16200000">
            <a:off x="1905120" y="3238560"/>
            <a:ext cx="914400" cy="83808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1" name="AutoShape 12"/>
          <p:cNvCxnSpPr>
            <a:stCxn id="420" idx="3"/>
            <a:endCxn id="413" idx="2"/>
          </p:cNvCxnSpPr>
          <p:nvPr/>
        </p:nvCxnSpPr>
        <p:spPr>
          <a:xfrm flipV="1">
            <a:off x="2781000" y="2361960"/>
            <a:ext cx="1105560" cy="129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2" name="AutoShape 13"/>
          <p:cNvCxnSpPr>
            <a:stCxn id="420" idx="3"/>
            <a:endCxn id="414" idx="1"/>
          </p:cNvCxnSpPr>
          <p:nvPr/>
        </p:nvCxnSpPr>
        <p:spPr>
          <a:xfrm>
            <a:off x="2781360" y="3657600"/>
            <a:ext cx="1216800" cy="117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3" name="Text Box 14"/>
          <p:cNvSpPr/>
          <p:nvPr/>
        </p:nvSpPr>
        <p:spPr>
          <a:xfrm>
            <a:off x="3352680" y="266688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X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5"/>
          <p:cNvSpPr/>
          <p:nvPr/>
        </p:nvSpPr>
        <p:spPr>
          <a:xfrm>
            <a:off x="3352680" y="388620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Y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reeform 16"/>
          <p:cNvSpPr/>
          <p:nvPr/>
        </p:nvSpPr>
        <p:spPr>
          <a:xfrm flipH="1" rot="16200000">
            <a:off x="1713240" y="3466800"/>
            <a:ext cx="457200" cy="38124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6" name="AutoShape 17"/>
          <p:cNvCxnSpPr>
            <a:stCxn id="414" idx="7"/>
            <a:endCxn id="412" idx="3"/>
          </p:cNvCxnSpPr>
          <p:nvPr/>
        </p:nvCxnSpPr>
        <p:spPr>
          <a:xfrm flipV="1">
            <a:off x="4536720" y="2631240"/>
            <a:ext cx="2051640" cy="2204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7" name="Text Box 18"/>
          <p:cNvSpPr/>
          <p:nvPr/>
        </p:nvSpPr>
        <p:spPr>
          <a:xfrm>
            <a:off x="5410080" y="365760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C14D5-2F4D-4AB1-B2FA-3729AE2EEC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2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lculating Mean Expect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1" name="Object 3"/>
          <p:cNvGraphicFramePr/>
          <p:nvPr/>
        </p:nvGraphicFramePr>
        <p:xfrm>
          <a:off x="846000" y="1704960"/>
          <a:ext cx="3489480" cy="12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6000" y="1704960"/>
                    <a:ext cx="348948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3" name="Object 4"/>
          <p:cNvGraphicFramePr/>
          <p:nvPr/>
        </p:nvGraphicFramePr>
        <p:xfrm>
          <a:off x="838080" y="3657600"/>
          <a:ext cx="7508880" cy="1714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3657600"/>
                    <a:ext cx="7508880" cy="17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B90E4-9A1E-4811-9707-49F049197A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2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an Squares and Mean Expect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2"/>
          <p:cNvSpPr/>
          <p:nvPr/>
        </p:nvSpPr>
        <p:spPr>
          <a:xfrm>
            <a:off x="1371600" y="533520"/>
            <a:ext cx="1143000" cy="1143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3"/>
          <p:cNvSpPr/>
          <p:nvPr/>
        </p:nvSpPr>
        <p:spPr>
          <a:xfrm>
            <a:off x="4038480" y="533520"/>
            <a:ext cx="1143000" cy="1143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4"/>
          <p:cNvSpPr/>
          <p:nvPr/>
        </p:nvSpPr>
        <p:spPr>
          <a:xfrm>
            <a:off x="6477120" y="533520"/>
            <a:ext cx="1143000" cy="114300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1" name="AutoShape 5"/>
          <p:cNvCxnSpPr>
            <a:stCxn id="438" idx="3"/>
            <a:endCxn id="439" idx="1"/>
          </p:cNvCxnSpPr>
          <p:nvPr/>
        </p:nvCxnSpPr>
        <p:spPr>
          <a:xfrm>
            <a:off x="2514240" y="1104480"/>
            <a:ext cx="1524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AutoShape 6"/>
          <p:cNvCxnSpPr>
            <a:stCxn id="440" idx="2"/>
            <a:endCxn id="439" idx="3"/>
          </p:cNvCxnSpPr>
          <p:nvPr/>
        </p:nvCxnSpPr>
        <p:spPr>
          <a:xfrm flipH="1">
            <a:off x="5180760" y="1104480"/>
            <a:ext cx="129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3" name="Freeform 7"/>
          <p:cNvSpPr/>
          <p:nvPr/>
        </p:nvSpPr>
        <p:spPr>
          <a:xfrm rot="5400000">
            <a:off x="7467480" y="838080"/>
            <a:ext cx="685800" cy="53352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8"/>
          <p:cNvSpPr/>
          <p:nvPr/>
        </p:nvSpPr>
        <p:spPr>
          <a:xfrm>
            <a:off x="2971800" y="457200"/>
            <a:ext cx="838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11"/>
          <p:cNvSpPr/>
          <p:nvPr/>
        </p:nvSpPr>
        <p:spPr>
          <a:xfrm>
            <a:off x="1371600" y="2819520"/>
            <a:ext cx="1143000" cy="1143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6" name="AutoShape 12"/>
          <p:cNvCxnSpPr>
            <a:stCxn id="445" idx="5"/>
          </p:cNvCxnSpPr>
          <p:nvPr/>
        </p:nvCxnSpPr>
        <p:spPr>
          <a:xfrm flipV="1">
            <a:off x="2228400" y="1676160"/>
            <a:ext cx="1810440" cy="171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7" name="AutoShape 13"/>
          <p:cNvCxnSpPr>
            <a:stCxn id="445" idx="0"/>
            <a:endCxn id="438" idx="2"/>
          </p:cNvCxnSpPr>
          <p:nvPr/>
        </p:nvCxnSpPr>
        <p:spPr>
          <a:xfrm flipV="1">
            <a:off x="1942920" y="1675800"/>
            <a:ext cx="108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8" name="Freeform 14"/>
          <p:cNvSpPr/>
          <p:nvPr/>
        </p:nvSpPr>
        <p:spPr>
          <a:xfrm flipH="1" rot="16200000">
            <a:off x="761760" y="838080"/>
            <a:ext cx="685800" cy="53352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Freeform 15"/>
          <p:cNvSpPr/>
          <p:nvPr/>
        </p:nvSpPr>
        <p:spPr>
          <a:xfrm flipH="1" rot="10800000">
            <a:off x="1599120" y="3962160"/>
            <a:ext cx="685800" cy="53316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6"/>
          <p:cNvSpPr/>
          <p:nvPr/>
        </p:nvSpPr>
        <p:spPr>
          <a:xfrm>
            <a:off x="2895480" y="1692360"/>
            <a:ext cx="838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7"/>
          <p:cNvSpPr/>
          <p:nvPr/>
        </p:nvSpPr>
        <p:spPr>
          <a:xfrm>
            <a:off x="1905120" y="1981080"/>
            <a:ext cx="838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8"/>
          <p:cNvSpPr/>
          <p:nvPr/>
        </p:nvSpPr>
        <p:spPr>
          <a:xfrm>
            <a:off x="5715000" y="563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3" name="Object 19"/>
          <p:cNvGraphicFramePr/>
          <p:nvPr/>
        </p:nvGraphicFramePr>
        <p:xfrm>
          <a:off x="5127480" y="3376440"/>
          <a:ext cx="3308400" cy="45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4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27480" y="3376440"/>
                    <a:ext cx="330840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5" name="Object 20"/>
          <p:cNvGraphicFramePr/>
          <p:nvPr/>
        </p:nvGraphicFramePr>
        <p:xfrm>
          <a:off x="5067360" y="4308480"/>
          <a:ext cx="1927080" cy="46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6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67360" y="4308480"/>
                    <a:ext cx="192708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7" name="Object 21"/>
          <p:cNvGraphicFramePr/>
          <p:nvPr/>
        </p:nvGraphicFramePr>
        <p:xfrm>
          <a:off x="5092560" y="2889360"/>
          <a:ext cx="1624320" cy="477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8" name="Object 2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92560" y="2889360"/>
                    <a:ext cx="162432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9" name="Text Box 22"/>
          <p:cNvSpPr/>
          <p:nvPr/>
        </p:nvSpPr>
        <p:spPr>
          <a:xfrm>
            <a:off x="4724280" y="24382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ected Varian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23"/>
          <p:cNvSpPr/>
          <p:nvPr/>
        </p:nvSpPr>
        <p:spPr>
          <a:xfrm>
            <a:off x="4724280" y="38862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ected Covari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1" name="Object 24"/>
          <p:cNvGraphicFramePr/>
          <p:nvPr/>
        </p:nvGraphicFramePr>
        <p:xfrm>
          <a:off x="4965840" y="5827680"/>
          <a:ext cx="2336760" cy="460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62" name="Object 2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65840" y="5827680"/>
                    <a:ext cx="233676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3" name="Object 25"/>
          <p:cNvGraphicFramePr/>
          <p:nvPr/>
        </p:nvGraphicFramePr>
        <p:xfrm>
          <a:off x="5029200" y="5326200"/>
          <a:ext cx="1447920" cy="474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64" name="Object 2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29200" y="5326200"/>
                    <a:ext cx="144792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5" name="Text Box 26"/>
          <p:cNvSpPr/>
          <p:nvPr/>
        </p:nvSpPr>
        <p:spPr>
          <a:xfrm>
            <a:off x="4724280" y="49132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ected Me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2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E9B1D-A462-4704-82A6-1E5F10F3FE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8" name="Object 3"/>
          <p:cNvGraphicFramePr/>
          <p:nvPr/>
        </p:nvGraphicFramePr>
        <p:xfrm>
          <a:off x="363600" y="506520"/>
          <a:ext cx="503280" cy="530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69" name="Object 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63600" y="506520"/>
                    <a:ext cx="503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0" name="Object 30"/>
          <p:cNvGraphicFramePr/>
          <p:nvPr/>
        </p:nvGraphicFramePr>
        <p:xfrm>
          <a:off x="8061480" y="428760"/>
          <a:ext cx="511200" cy="608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71" name="Object 3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061480" y="428760"/>
                    <a:ext cx="51120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lgebraic Expec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s can be calculated using symbolic matrix alge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o involved for “Intro to SE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ields same expectations as do tracing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y helpful for very complex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sponds to what is going on “under the hood” as programs fit models to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586CA-EACE-4C53-A2D9-3A8667CAA1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arious Definitions of S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l statistical statement about relations among chosen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pothesized pattern of (linear) relations among a set of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ion of statistical techniques that allow examination of sets of relations among one or more IVs (continuous or discrete) and one or more DVs (continuous or discre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A507C-A8B9-4781-9C2A-08F24E4B13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M Program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&amp; Modeling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4FE1A-17FE-49C4-900A-E4BB1B7738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 SEM Pro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p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general program, several distinct 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R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SEM program, commonly used 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y to use, words with SP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 CAL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ilable through 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v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y good program, available through R (and free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47536-6022-4AFD-AB2D-574B72AEA2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ata for S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rly, used summary data (correlations, covariances, mea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programs now read “raw”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ill start with covariance matr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ardless of data (raw data, covariance matrices), be sure to export data from commonly used stat package (SAS, SPSS, R, St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ant: check your data after SEM program reads data to make sure everything ma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1F56F-8970-47D4-83B1-BCC85C62D2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s in Statistical Analysis: SEER _ M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: Specification – develop equations that match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oretical conje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: Estimation – obtain best-fit parameter est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: Evaluation – evaluate overall model fit, evaluate al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meter est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: Readjustment – re-specify model to yield better 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irical jus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oretical jus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C: Model Comparison – compare fit of alternative models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step added by S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8A634-E682-428B-A00B-6AB44F6296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presenting Model (Mis)F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fit models to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tricted model will not fit data perf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cators of model mis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cators of model 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84C7E-9B07-4EB1-8C20-13DBAB30B1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presenting Model (Mis)F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all (Mis)fit: Statistical indicator of mis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-square value based on misfit to data, so higher chi-square is not g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grees of freedom (df): Difference between number of sample statistics (covariances, plus means [if modeled]) and number of parameters estim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 chi-square provides statistical basis for rejecting model in favor of an unspecified altern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different alternative estimators (e.g., robu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ill deal with simple maximum likelihood (ML) chi-squ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4DFDA-4490-45A3-B54D-EF1AC9487C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presenting Model (Mis)F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all (Mis)fit: Absolute misfit (higher levels b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 Mean Square Error of Approximation (RMSE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int estima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MSEA      &lt; .05: Close 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MSEA .05 - .08: Acceptable 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MSEA .08 - .10: Poor 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MSEA      &gt; .10: Unacceptable 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val estima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lower bound includes .05, cannot reject close 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ized root mean residual (SRMR) correl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int estimate: &lt; .06: Close 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F9408-BC84-4257-82ED-851F40F65C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presenting Model (Mis)F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all (Mis)fit: Relative fit, or fit relative to null model, so higher levels are g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cker-Lewis index (TL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LI      &gt; .95: Close 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LI .90 - .95: Acceptable 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LI      &lt; .90: Unacceptable 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, do not use these as hard-and-fast cutoffs (!#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ative fit index (CF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lly, same cutoffs as the T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FI seems less sensitive to model comparisons than does T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Widaman &amp; Thompson (2003, Psychological Methods) for det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96116-771F-44FA-937F-55FDDBA3A5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M Ex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1C041-423D-481B-81FC-A9442C6915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1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rckhoff data: Social stra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= 767 1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rade bo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ther’s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ther’s occupational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n’s intellig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n’s grade point a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n’s educational expec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n’s occupational aspi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ED944-E5F7-4EA6-A5D6-FC900B2C30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 Advantages of S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icit representation of theory (no default mod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resentations of complex multivariate theories involving latent entitie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and indirect effects can be teased ap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sis / comparison of multiple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cular variables can be both outcomes (DVs) and predictors (IVs) in the same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ssing data are easy to handle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4253C-886F-454E-8745-6E592AE24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1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rckhoff data: Social stra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dad_ed dad_occ grades ed_exp  asp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1.000  0.277   0.250  0.572  0.489  0.3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0.277  1.000   0.611  0.294  0.446  0.3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0.250  0.611   1.000  0.248  0.410  0.3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  0.572  0.294   0.248  1.000  0.597  0.4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  0.489  0.446   0.410  0.597  1.000  0.6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   0.335  0.303   0.331  0.478  0.651  1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47765-93B3-4E06-B3FD-A807C2F4EE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1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pothesized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733E5-5DEA-4F06-A8ED-B92E5D3A04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2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47072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1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1 – a priori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ath1.lv = 'int    ~ dad_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 dad_ed + 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 grades + int + dad_ed + dad_o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 ~ grades + int + dad_occ + ed_e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dad_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~~ dad_o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~~ 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~ gr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~ ed_e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~~ asp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dad_occ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E299C-54CB-48A6-996D-8142264B16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ression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~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277    0.035    7.984    0.000    0.277    0.27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147    0.030    4.835    0.000    0.147    0.1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 0.531    0.030   17.498    0.000    0.531    0.5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           0.410    0.032   12.622    0.000    0.410    0.4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 0.164    0.032    5.089    0.000    0.164    0.16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186    0.034    5.417    0.000    0.186    0.18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0.153    0.033    4.627    0.000    0.153    0.1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~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           0.156    0.037    4.262    0.000    0.156    0.15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-0.041    0.034   -1.209    0.227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-0.041   -0.0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0.079    0.029    2.711    0.007    0.079    0.0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           0.545    0.036   14.983    0.000    0.545    0.5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variance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0.610    0.042   14.440    0.000    0.610    0.6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BEEA5-94C5-4E5F-8340-AF27263B1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7E5E1-D1F8-4FD3-BDE6-479853ACCE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1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6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25, .099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27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7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1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2 – drop 1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ath2.lv = 'int    ~ dad_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 dad_ed + 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 grades + int + dad_ed + dad_o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 ~ grades +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0*i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+ dad_occ + ed_exp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dad_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~~ dad_o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~~ 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~ gr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~ ed_e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~~ asp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dad_occ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8B45A-C7D0-46D1-B3A5-F5ABB4A813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ression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~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277    0.035    7.984    0.000    0.277    0.27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147    0.030    4.835    0.000    0.147    0.1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 0.531    0.030   17.498    0.000    0.531    0.5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           0.410    0.032   12.622    0.000    0.410    0.4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 0.164    0.032    5.089    0.000    0.164    0.16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186    0.034    5.417    0.000    0.186    0.18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0.153    0.033    4.627    0.000    0.153    0.1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~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           0.138    0.033    4.134    0.000    0.138    0.1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0.000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0.000    0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0.077    0.029    2.628    0.009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.077    0.07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           0.537    0.036   15.040    0.000    0.537    0.5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variance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0.610    0.042   14.440    0.000    0.610    0.6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F3FA1-72B4-4EF0-8B56-2C6F303B7D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8A2F4-A867-4AEA-B010-035184179E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1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.63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6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25, .099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27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5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22, .087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382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7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8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4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2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1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3 – drop 2nd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ath3.lv = 'int    ~ dad_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 dad_ed + 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 grades + int + dad_ed + dad_o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 ~ grades +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0*int + 0*dad_occ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+ ed_ex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dad_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~~ dad_o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~~ 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~ gr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~ ed_e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~~ asp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dad_occ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71445-1A65-4CBA-ACD4-52E5F67FD2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ression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~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277    0.035    7.984    0.000    0.277    0.27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147    0.030    4.835    0.000    0.147    0.1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 0.531    0.030   17.498    0.000    0.531    0.5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           0.410    0.032   12.622    0.000    0.410    0.4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 0.164    0.032    5.089    0.000    0.164    0.16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186    0.034    5.417    0.000    0.186    0.18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0.153    0.033    4.627    0.000    0.153    0.1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~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           0.139    0.034    4.134    0.000    0.139    0.1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0.000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0.000    0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0.000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0.000    0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           0.568    0.034   16.807    0.000    0.568    0.56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variance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0.610    0.042   14.440    0.000    0.610    0.6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C56ED-DAF4-4CCA-B721-FC7E5483A3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 Disadvantages of S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for (strong) substantive theory regarding relations among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large sample size (usual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basic understanding of 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ield to temptation, “when the tail wags the dog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ilure to consider equivalent models weakens 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ds too easily to statements regarding caus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3A714-0452-4ABA-9BF8-EB5CEA72B0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CC841-DA7B-4EC3-A273-BBD867F103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8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1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.63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.29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0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6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25, .099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27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5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22, .087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382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6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34, .091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226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7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8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7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3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4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6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2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1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4 – equate 2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ath4.lv = 'int    ~ dad_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 dad_ed + 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 grades + int + dad_ed + dad_o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 ~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b1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*grade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+ 0*int + 0*dad_occ +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b1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*ed_exp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 using same "name" for coe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dad_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~~ dad_o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~~ 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~ gr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~ ed_e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~~ asp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dad_occ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EA0E4-1BDA-45D5-884B-A3970387AC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ression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~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277    0.035    7.984    0.000    0.277    0.27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147    0.030    4.835    0.000    0.147    0.1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 0.531    0.030   17.498    0.000    0.531    0.5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           0.410    0.032   12.622    0.000    0.410    0.4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 0.164    0.032    5.089    0.000    0.164    0.16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186    0.034    5.417    0.000    0.186    0.18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0.153    0.033    4.627    0.000    0.153    0.1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~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(b1)    0.353    0.016   22.450    0.000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.353    0.3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 0.000                               0.000    0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0.000                               0.000    0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(b1)    0.353    0.016   22.450    0.000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.353    0.3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variance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0.610    0.042   14.440    0.000    0.610    0.6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C8420-B9C6-445B-8B5D-E050A77D6D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8ED0C-D3C6-437E-9A1F-D1095A4D05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0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1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.63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.29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8.21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0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6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25, .099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27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5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22, .087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382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6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34, .091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226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1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92, .142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7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8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7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0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6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3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4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4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6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8.9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2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1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rckhoff data: Social stra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1 fit is fine, but one non-significant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2 is probably the optimal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3, given its greater parsimony, is attra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4 had much worse fit, so unacceptable on all gr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, let’s look at Model 2, with 4 sizeable p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ther’s education direct effect on son’s intellig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n’s intelligence direct effect on his gr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n’s grades direct effect on educational expec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n’s educational expectations direct effect on occupational aspi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A79E3-7CCC-49DB-8FFA-039D1A5869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1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0284E-8531-4BFF-8637-53E7931AA9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3" descr=""/>
          <p:cNvPicPr/>
          <p:nvPr/>
        </p:nvPicPr>
        <p:blipFill>
          <a:blip r:embed="rId1"/>
          <a:stretch/>
        </p:blipFill>
        <p:spPr>
          <a:xfrm>
            <a:off x="1492200" y="1600200"/>
            <a:ext cx="6585120" cy="43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well et al. data: Social stra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= 4388 1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rade bo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ntal 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cioeconomic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ademic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ificant other infl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ducational aspi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FE43C-4B2C-4BAA-BAAC-D0DCB1E3A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well et al. data: Social stra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    SES   AP    SO    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 1.000 0.288 0.589 0.438 0.4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 0.288 1.000 0.194 0.359 0.3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 0.589 0.194 1.000 0.473 0.4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 0.438 0.359 0.473 1.000 0.6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d_aspir  0.418 0.380 0.459 0.611 1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dev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    SES    AP    SO    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D        29.17 11.08 27.05  1.71  0.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BEBAF-2B26-428D-943D-7DF83A4A6D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pothesized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22F4F-3ED6-46FE-95E4-339619D05D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3" descr=""/>
          <p:cNvPicPr/>
          <p:nvPr/>
        </p:nvPicPr>
        <p:blipFill>
          <a:blip r:embed="rId1"/>
          <a:stretch/>
        </p:blipFill>
        <p:spPr>
          <a:xfrm>
            <a:off x="1143000" y="1725480"/>
            <a:ext cx="7010280" cy="451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ty little secret/assumption about regression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pendent variables are measured without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, this assumption is not met with these data: All variables in this model are measured with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clear what effect this might have on model 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’s see what happen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DE720-D642-4ECF-BCF1-745F754A66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pecial Cases of S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linear model (t-tests, regression, multiple regression, ANOVA, ANCOVA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h mod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rmatory factor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tent variable path mod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ngitudinal data analytic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-order autoregressive and cross-lagged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growth curve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difference score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0DBAD-97D6-46AF-A0D1-9C1C729364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1 – a priori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ath1.mv = 'ap ~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o ~ ma + sesr + 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a ~ ap + 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a   ~~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r ~~ se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r ~~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p   ~~ 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o   ~~ 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a   ~~ ea 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4770F-39E7-4176-B0EC-F5BE7FA586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ression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p ~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                0.546    0.011   48.280    0.000    0.546    0.58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o ~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                0.010    0.001   11.260    0.000    0.010    0.1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sr              0.038    0.002   18.848    0.000    0.038    0.24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p                0.020    0.001   20.745    0.000    0.020    0.3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a ~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p                0.008    0.000   16.699    0.000    0.008    0.2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o                0.280    0.007   38.617    0.000    0.280    0.5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variance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 ~~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sr             93.113    5.079   18.333    0.000   93.113    0.28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4D8B6-C78F-4767-9032-AC150D97FC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115E3-C5D9-4D67-86C1-F3BA11FA81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8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2.7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3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121, .150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87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6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4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nesty is the best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honest about what you are doing, which requ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ore elaborate graphic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ore elaborate (but more adaptable) model 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’s see what this looks lik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F757D-D41A-456A-8A2F-CE9C9FF496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l” hypothesized model: Mod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1F80C-8465-4E7B-B4D9-16C6DB4271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Picture 2" descr=""/>
          <p:cNvPicPr/>
          <p:nvPr/>
        </p:nvPicPr>
        <p:blipFill>
          <a:blip r:embed="rId1"/>
          <a:stretch/>
        </p:blipFill>
        <p:spPr>
          <a:xfrm>
            <a:off x="1698480" y="1523880"/>
            <a:ext cx="653112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2 – “real”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ath2.lv = '# loadings of MVs on LVs in Lambda (L)  # code =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=~ 1*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=~ 1*se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=~ 1*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=~ 1*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aspire =~ 1*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intercepts of MVs in Nu (N)             #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no means are used in this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unique vars &amp; covs of MVs in Theta (T)  # code ~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a   ~~ 0*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r ~~ 0*se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p   ~~ 0*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o   ~~ 0*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a   ~~ 0*e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0563F-84E4-41BD-A45A-EB6C89FAE4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2 – “real”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means of LVs in Alpha (A)             #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again, no means used in this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vars &amp; covariances of LVs in Psi (P)  # code ~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~~ mentab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~~ 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~~ mentab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~~ acadper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~~ sig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aspire ~~ edasp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regressions among LVs in Beta (B)     #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~ mentab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~ mentabil + ses + acadper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aspire ~                  acadperf + sig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E3432-88CD-498D-9A31-C09E14868F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ressio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~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         0.546    0.011   48.280    0.000    0.589    0.58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~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         0.010    0.001   11.260    0.000    0.179    0.1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         0.038    0.002   18.848    0.000    0.246    0.24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         0.020    0.001   20.745    0.000    0.321    0.3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daspire ~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         0.008    0.000   16.699    0.000    0.219    0.2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         0.280    0.007   38.617    0.000    0.507    0.5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varianc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~~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        93.113    5.079   18.333    0.000    0.288    0.28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4EB31-8DC1-485E-8520-CB31DBE350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1B875-2079-445A-88DE-F51392D9C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3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2.7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2.7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3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121, .150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3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121, .150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87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87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6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6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4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4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, with expanded representation, for Model 3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 specification, correct for unre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“residual” variance of MVs to unreliable varia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reliability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ide: KR20 and KR21 reliability coefficients were 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2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mulas in Kuder &amp; Richardson (193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W1 estimate of reliability = first thing that popped into Keith Widaman’s head when he read about MV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H2 estimate of reliability = second thoughts on reliability by Jonathan Helm, a former grad stu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6A079-E74D-4097-98C7-AB0033AEAD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8" name="Object 2"/>
          <p:cNvGraphicFramePr/>
          <p:nvPr/>
        </p:nvGraphicFramePr>
        <p:xfrm>
          <a:off x="1676520" y="2514600"/>
          <a:ext cx="434628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514600"/>
                    <a:ext cx="434628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 SEM Soft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R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p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S Proc CAL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M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E3E2A-CF77-4ED6-A137-D80066869B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4572000" y="1066680"/>
            <a:ext cx="441972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A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pat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Com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at RAMO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: lavaa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, use let’s perform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KW1   JH2    Unrel. var = (1 - rxx) * variance of M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a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94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ame    for ma     = (1 -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94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 * 850.597 =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51.03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r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85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ame    for sesr   = (1 -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85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 * 122.944 =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8.44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p    .90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7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for ap     = (1 -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7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 * 731.703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219.51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o    .70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62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for so     = (1 -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62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 *   2.924 =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.11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a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64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ame    for ma     = (1 -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64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 *   0.887 =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.31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w, use above calculations in model spec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87CAA-36B5-4D6E-A776-1EBA7F7A35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3 – “corrected”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ath3.lv = '# loadings of MVs on LVs in Lambda (L)  # code =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=~ 1*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=~ 1*se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=~ 1*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=~ 1*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aspire =~ 1*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intercepts of MVs in Nu (N)           #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no means are used in this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unique vars &amp; covs of MVs in Theta (T)# code ~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a   ~~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51.0358*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r ~~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18.4416*se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p   ~~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219.5108*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o   ~~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1.1112*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a   ~~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0.3195*ea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046E4-74FE-4351-8626-F3A05DF91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3 – “corrected”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means of LVs in Alpha (A)             # lavaan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again, no means used in this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vars &amp; covariances of LVs in Psi (P)  # lavaan code ~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~~ start(799.34)*mentab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~~ start(104.47)*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~~ start(093.36)*mentab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~~ start(241.51)*acadper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~~ start(000.64)*sig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aspire ~~ start(000.02)*edasp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regressions among LVs in Beta (B)     # lavaan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~ start(0.582)*mentab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~ start(0.001)*mentabil + start(0.046)*ses 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art(0.038)*acadper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aspire ~ start(-.002)*acadperf + start(0.577)*sig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77F93-4AAB-4768-882B-50189BA37F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963A9-E5F2-41B6-BD08-94F292EAA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5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2.7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2.7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0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3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121, .150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3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121, .150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00, .031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87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87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6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6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0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4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4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0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ression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~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         0.582    0.012   48.247    0.000    0.727    0.7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~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-0.000    0.001   -0.365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0.715   -0.010   -0.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         0.046    0.002   20.915    0.000    0.354    0.3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         0.038    0.002   20.607    0.000    0.647    0.6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daspire ~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-0.002    0.001   -1.713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.087   -0.063   -0.06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         0.577    0.022   26.241    0.000    1.025    1.0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variance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~~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        93.356    5.075   18.394    0.000    0.323    0.3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46D58-DF03-4843-A789-E1613B27AD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his data s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1, 2, and 3 are “the same model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equal number of path coefficients, hence 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1 and 2 lea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cal fit: mixed, generally unaccept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cal parameter estimates, and SEs: all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3 has altere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t: now acceptable on all 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 estimates and 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, two estimates are non-significa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ds to Model 4, dropping two path coeffici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A61C3-D229-4803-B0AF-41F19DA4A2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4 – final trimmed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ath4.lv = '# loadings of MVs on LVs in Lambda (L)  # code =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=~ 1*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=~ 1*se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=~ 1*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=~ 1*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aspire =~ 1*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intercepts of MVs in Nu (N)           #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no means are used in this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unique vars &amp; covs of MVs in Theta (T)# code ~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a   ~~  51.0358*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r ~~  18.4416*se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p   ~~ 219.5108*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o   ~~   1.1112*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a   ~~   0.3195*e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6EA4B-44B3-484E-AFB2-ED893F17C0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4 – final trimmed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means of LVs in Alpha (A)             # lavaan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again, no means used in this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vars &amp; covariances of LVs in Psi (P)  # lavaan code ~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~~ start(799.34)*mentab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~~ start(104.47)*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~~ start(093.36)*mentab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~~ start(241.51)*acadper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~~ start(000.64)*sig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aspire ~~ start(000.02)*edasp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regressions among LVs in Beta (B)     # lavaan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acadperf ~ start(0.582)*mentab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sigother ~ start(0.046)*ses + start(0.038)*acadper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edaspire ~ start(0.577)*sig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B7B69-EA48-4FFE-B321-EEE149F7A1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AF0AC-043A-4F46-A53C-1232C3C7AB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5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2.7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2.7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0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.1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3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121, .150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3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121, .150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00, .031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00, .026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87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87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6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6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0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0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4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4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0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0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1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2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well et al. data: Social stra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1 and 2 generally unaccep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3 is surely accep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mmed Model 4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simonio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 path coefficients need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ntal ability to academic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S and academic performance to significant others’ influ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 other’s influence to educational aspi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87C20-6786-4D02-9076-2B6088DB11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derlying Princi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SEM concerns relations among variables, emphasis often centers on covariance matr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ns can be added to models, needed for some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ritten at level of observations (!), so can be fit to raw scores for per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pothesized model attempts to explain associations present in data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rsimo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ccu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ch between observed data and hypothesized model is referred to as Model Fit (e.g., fit statistic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 used most profitably when comparing fit of alternative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A665D-F482-4E82-AFB7-2D24534CA9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well et al. data: Model 4, raw score est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96A73-A7F7-4D68-BAE1-11013BB7F5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4" name="Picture 3" descr=""/>
          <p:cNvPicPr/>
          <p:nvPr/>
        </p:nvPicPr>
        <p:blipFill>
          <a:blip r:embed="rId1"/>
          <a:stretch/>
        </p:blipFill>
        <p:spPr>
          <a:xfrm>
            <a:off x="1447920" y="1843200"/>
            <a:ext cx="5867280" cy="426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well et al. data: Model 4, standardized est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CB444-C473-4417-969C-3FD3D0961E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9" name="Picture 3" descr=""/>
          <p:cNvPicPr/>
          <p:nvPr/>
        </p:nvPicPr>
        <p:blipFill>
          <a:blip r:embed="rId1"/>
          <a:stretch/>
        </p:blipFill>
        <p:spPr>
          <a:xfrm>
            <a:off x="1447920" y="1835280"/>
            <a:ext cx="5867280" cy="429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3: Confirmatory factor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lzinger &amp; Swineford (1939)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= 301 junior high school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: 9 ability variables (selected from 26),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tial ability (S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sual perception, cubes, loze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bal comprehension (V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agraph comprehension, sentence comprehension, word mea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ceptual speed (P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ition, counting dots, straight-and-curved capital le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F9976-A9CD-47A6-B00B-5709350709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3: Confirmatory factor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lzinger &amp; Swineford (1939)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s we might as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 single factor adequate to represent covariances among the 9 manifest variab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the hypothesized 3-factor structure fit bet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the hypothesized 3-factor structure fit well enough or does it need modific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we identify a general factor from these da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es a figural portrayal of the model look lik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629D3-3565-4E1B-B3EE-F5A06156ED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3: Confirmatory factor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lzinger &amp; Swineford data: Gener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C1114-4DB4-4B29-929D-64860EA62D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Picture 2" descr=""/>
          <p:cNvPicPr/>
          <p:nvPr/>
        </p:nvPicPr>
        <p:blipFill>
          <a:blip r:embed="rId1"/>
          <a:stretch/>
        </p:blipFill>
        <p:spPr>
          <a:xfrm>
            <a:off x="1676520" y="2728800"/>
            <a:ext cx="6476760" cy="31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3: Confirmatory factor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6104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lzinger &amp; Swineford data: General model with m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A6181-2CA3-4CC6-8394-8BD6980408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Picture 3" descr=""/>
          <p:cNvPicPr/>
          <p:nvPr/>
        </p:nvPicPr>
        <p:blipFill>
          <a:blip r:embed="rId1"/>
          <a:stretch/>
        </p:blipFill>
        <p:spPr>
          <a:xfrm>
            <a:off x="952560" y="1731960"/>
            <a:ext cx="7238880" cy="461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3: Confirmatory factor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1 – a priori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s.model1 = 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loadings of MVs on LVs in Lambda (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patial  =~ visperc  + cubes    + loz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verbal   =~ paracomp + sentcomp + wordme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peed    =~ addition + countdot + scca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it1 = cfa(hs.model1, data = hs39ra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ummary(fit1, fit.measures = TRUE, standardized = TR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spect(fit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I1 = modificationIndices(fit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ubset(MI1, mi &gt; 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06E31-B430-44B9-9C28-D74E2FEF07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EE366-F942-4AE3-8FA8-97623DDBC9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5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5.3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9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71, .114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89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3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6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atent Variables: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atial =~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isperc           1.000                               5.398    0.77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ubes             0.369    0.066    5.554    0.000    1.992    0.4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ozenges          0.972    0.145    6.685    0.000    5.249    0.58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erbal =~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acomp          1.000                               2.969    0.8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ntcomp          1.484    0.087   17.014    0.000    4.406    0.8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ordmean          2.161    0.129   16.703    0.000    6.416    0.83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eed =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ition          1.000                              14.248    0.5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dot          1.026    0.143    7.152    0.000   14.619    0.7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caps            1.693    0.237    7.155    0.000   24.119    0.66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variance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atial ~~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erbal            7.348    1.323    5.552    0.000    0.459    0.4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eed            36.187    7.766    4.660    0.000    0.471    0.47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erbal ~~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eed            11.971    3.403    3.518    0.000    0.283    0.28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1ABA2-CC50-40FD-AA6B-B3B9485867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MI1 = modificationIndices(fit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subset(MI1, mi &gt; 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hs op      rhs     mi      epc  sepc.lv sepc.all sepc.n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28  spatial =~ addition 18.631   -1.617   -8.729   -0.349   -0.34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30  spatial =~   sccaps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36.411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3.462   18.688    0.515    0.5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76 addition ~~ countdot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34.145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246.764  246.764    0.488    0.48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78 countdot ~~   sccaps 14.946 -304.628 -304.628   -0.415   -0.4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9217D-4F8A-4038-A584-9CF4EC214B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eith Widaman</dc:creator>
  <dc:description/>
  <dc:language>en-US</dc:language>
  <cp:lastModifiedBy>GRAD QUANT</cp:lastModifiedBy>
  <dcterms:modified xsi:type="dcterms:W3CDTF">2016-05-11T19:18:29Z</dcterms:modified>
  <cp:revision>17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